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6.png" ContentType="image/png"/>
  <Override PartName="/ppt/media/image11.gif" ContentType="image/gif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push.wav" ContentType="audio/x-wav"/>
  <Override PartName="/ppt/media/image23.jpeg" ContentType="image/jpeg"/>
  <Override PartName="/ppt/media/image18.jpeg" ContentType="image/jpeg"/>
  <Override PartName="/ppt/media/image19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5CC-20FD-4DFD-A3BA-D4AA3D84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1A0-EC47-4901-B2FE-A27D6688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6DC-4EE7-4649-ABD9-F88A5D4F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873-9C42-4F85-AF08-F6BEBFE1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CB16-D531-4DBB-8239-2E0809AD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6655-8690-49F4-B83D-0D8E3F8F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D73E-F6F1-4895-880F-3CDB2941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65AC-BE86-4113-9A38-4082B899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486B-1F17-41B1-A088-DD7718CD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B82C-EF13-48E1-8C6C-C0F06FAE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47A2-9EF0-4962-94E8-09D8043D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C99-0DB3-464A-99FB-E35E0BAA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9EF0-016A-4032-BEB6-58F149F6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E6CA-C99F-409C-885B-00F09A20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6E79-2016-4789-99A8-83CA93EE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269C-3263-4ED5-9728-4CAEE495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80E0-DBE1-419E-B425-B1F40540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3B140-0C7C-4495-8F31-AE6D6583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FFF0A-0100-4B30-B495-F6C5DF6F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5EA3-F88B-44DC-A9E1-37EC956A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2C6EE-768F-4342-9000-13CCD3D0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B085-83F4-4121-B4F4-A7EB136D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FDA-D0C7-45B2-88B3-C3C95781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EB69B-8C18-48B9-89B5-1F05859F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B3171-8319-4EA1-98D6-D0E8F143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AEEAC-CA96-4852-82C1-0C9EB473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8A7A-B603-4321-89A6-DE420B91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E09D1-FC6B-4805-BCAD-777190B4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E504-293C-4833-99E4-D295A1B2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81E4B-5617-475E-A1CE-9D58E7B4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74897-C869-4D2E-A439-325A61D9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A15C7-FED1-4D68-882B-969B9FF5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DE249-30A8-41A4-910F-95F81E33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8CA-9E37-4098-AC9D-698E32EA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B1386-09D4-4EBA-A1DD-80DC7987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FBF7E-2A84-417D-B8C1-3ED58CA0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98709-2F77-4287-B105-9ADFC6BF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6F5BD-7EF1-48EB-803A-D5FC099A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51411-3170-4102-BEC3-08F44475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39EAF-2728-45A2-9199-325B778F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1BF65-4FB3-4830-A5A9-1230A0C6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5A973-05B7-45AA-A278-1163E6AB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5A62E-0B67-496F-B298-7C17C6AD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E6B25-3E81-499C-B245-1EA6AB4F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2A8-67F2-4D80-BD9E-BA9ECDAA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76869-75D0-4A8E-8508-546F15FB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12690-75CA-41A6-81C9-33A74C24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C7F8A-2B7E-4F6D-9B68-15963B57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1B66B-6A35-41D5-8C4B-26628AA7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39E82-AF32-4132-9AA7-BD2326BD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D4115-100E-4BCB-B3ED-947ACDE4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F820D-C9F3-4540-BEAD-979B1EBF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ABDFC-3ECF-4AD5-8D91-FDE1D5A0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4BC84-FE15-4D1E-972F-5CCA1380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04EFA-A16C-44DC-B357-A38C6537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8EE-A9BB-4C6F-AF8E-AF0069F9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8E4D4-5BA7-4908-89A1-3CE3F7EA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4D875-DD21-4F6C-A870-EE2E3269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B6CE6-0104-4CE5-95D8-E7DC5BC1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47B4C-A030-460E-BF0C-6618606B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36843-4846-4529-AA4C-3EAFFBCB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672D3-D9D6-47D2-B5E6-EEA0573E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0396F-CBE3-48BB-B7AB-07A018E4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77300-43BC-46C3-AEA8-E7F90555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55DD4-6DE5-43C2-836E-876EB787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E94AF-1AA5-45E3-B2DD-FFC58C44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64B-285A-4646-8937-50CF3493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850F4-3B08-49D7-8BAD-32A924E4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B7BAB-613C-48FD-AE38-34F6A19F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292FE-5392-4C2E-BF69-31B19917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F51FD-CD7F-4050-B757-7D076617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37175-45A6-4118-B062-C98F9801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D594A-579A-4B84-B75F-595FCCBC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4C802-0BD3-4CB7-A926-0B3CDD70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A2383-33C4-4E6F-A7B7-02A693F6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9CECD-C0D2-42D1-BF18-93D042EC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2FC52-2173-4BA9-858B-87486FFB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AE7-64A4-4910-9989-94377E7B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DFB50-34F1-4C15-859C-C3E077CF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9E3A5-7E75-4BB8-AD30-3FFE3A41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A345C-EF77-42A1-B0D9-5C4B005D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FF00F-0033-4DC9-B6CF-9D0A5860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CEE64-E14F-4A1A-AF82-B64E06E6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E0D-51E7-4A9C-BF23-CA2694F9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8A0C-67CC-41EB-8CCB-84A5DFCA050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8571-9280-47F6-8BB4-442CB68BCA4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B147-FE5C-4712-8452-874801262DE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DFC5-D870-4D22-9BF9-72ADD9B011E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6AA9-A5D7-4245-B795-334B21F7421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E08A-E6FD-44A6-8904-8D0FA6D4BEF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1DFE-AFAB-44FC-9D48-1FB747C4CB5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hyperlink" Target="file:///&#1055;&#1088;&#1077;&#1079;&#1077;&#1085;&#1090;&#1072;&#1094;&#1080;&#1103;1.ppt" TargetMode="External"/><Relationship Id="rId3" Type="http://schemas.openxmlformats.org/officeDocument/2006/relationships/slide" Target="slide22.xml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3840" cy="276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ndara"/>
              </a:rPr>
              <a:t>Давлени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6.Почему лось может сравнительно легко бегать по топким болотам, где другие большие животные вязнут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36" name="Picture 4" descr="43"/>
          <p:cNvPicPr/>
          <p:nvPr/>
        </p:nvPicPr>
        <p:blipFill>
          <a:blip r:embed="rId1"/>
          <a:stretch/>
        </p:blipFill>
        <p:spPr>
          <a:xfrm>
            <a:off x="4067280" y="2349360"/>
            <a:ext cx="4752720" cy="41547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0279158010"/>
          <p:cNvPicPr/>
          <p:nvPr/>
        </p:nvPicPr>
        <p:blipFill>
          <a:blip r:embed="rId2"/>
          <a:stretch/>
        </p:blipFill>
        <p:spPr>
          <a:xfrm>
            <a:off x="611280" y="2349360"/>
            <a:ext cx="3111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00"/>
                </a:solidFill>
                <a:latin typeface="Candara"/>
              </a:rPr>
              <a:t>Сила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rcRect l="12339" t="21368" r="13823" b="19168"/>
          <a:stretch/>
        </p:blipFill>
        <p:spPr>
          <a:xfrm>
            <a:off x="1187280" y="1916280"/>
            <a:ext cx="7417080" cy="4479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42" name="Picture 6" descr="J0336914"/>
          <p:cNvPicPr/>
          <p:nvPr/>
        </p:nvPicPr>
        <p:blipFill>
          <a:blip r:embed="rId2"/>
          <a:stretch/>
        </p:blipFill>
        <p:spPr>
          <a:xfrm>
            <a:off x="611280" y="5157720"/>
            <a:ext cx="116352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00"/>
                </a:solidFill>
                <a:latin typeface="Candara"/>
              </a:rPr>
              <a:t>Вес тела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rcRect l="12339" t="21368" r="13823" b="19168"/>
          <a:stretch/>
        </p:blipFill>
        <p:spPr>
          <a:xfrm>
            <a:off x="1403280" y="1812960"/>
            <a:ext cx="7272360" cy="438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46" name="Group 5"/>
          <p:cNvGrpSpPr/>
          <p:nvPr/>
        </p:nvGrpSpPr>
        <p:grpSpPr>
          <a:xfrm>
            <a:off x="2095560" y="2162160"/>
            <a:ext cx="853920" cy="755640"/>
            <a:chOff x="2095560" y="2162160"/>
            <a:chExt cx="853920" cy="755640"/>
          </a:xfrm>
        </p:grpSpPr>
        <p:sp>
          <p:nvSpPr>
            <p:cNvPr id="447" name="Rectangle 6"/>
            <p:cNvSpPr/>
            <p:nvPr/>
          </p:nvSpPr>
          <p:spPr>
            <a:xfrm>
              <a:off x="2095560" y="2162160"/>
              <a:ext cx="853920" cy="7556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WordArt 7"/>
            <p:cNvSpPr txBox="1"/>
            <p:nvPr/>
          </p:nvSpPr>
          <p:spPr>
            <a:xfrm>
              <a:off x="2385720" y="2239920"/>
              <a:ext cx="515160" cy="60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ccff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4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449" name="Group 8"/>
          <p:cNvGrpSpPr/>
          <p:nvPr/>
        </p:nvGrpSpPr>
        <p:grpSpPr>
          <a:xfrm>
            <a:off x="3203640" y="3500280"/>
            <a:ext cx="569880" cy="501840"/>
            <a:chOff x="3203640" y="3500280"/>
            <a:chExt cx="569880" cy="501840"/>
          </a:xfrm>
        </p:grpSpPr>
        <p:sp>
          <p:nvSpPr>
            <p:cNvPr id="450" name="Rectangle 9"/>
            <p:cNvSpPr/>
            <p:nvPr/>
          </p:nvSpPr>
          <p:spPr>
            <a:xfrm>
              <a:off x="3203640" y="3500280"/>
              <a:ext cx="569880" cy="5018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WordArt 10"/>
            <p:cNvSpPr txBox="1"/>
            <p:nvPr/>
          </p:nvSpPr>
          <p:spPr>
            <a:xfrm>
              <a:off x="3397320" y="3552120"/>
              <a:ext cx="343800" cy="40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ccff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4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452" name="Text Box 11"/>
          <p:cNvSpPr/>
          <p:nvPr/>
        </p:nvSpPr>
        <p:spPr>
          <a:xfrm>
            <a:off x="3995640" y="3530520"/>
            <a:ext cx="2305080" cy="4968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 тела,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2" descr="J0336914"/>
          <p:cNvPicPr/>
          <p:nvPr/>
        </p:nvPicPr>
        <p:blipFill>
          <a:blip r:embed="rId2"/>
          <a:stretch/>
        </p:blipFill>
        <p:spPr>
          <a:xfrm>
            <a:off x="324000" y="5084640"/>
            <a:ext cx="123012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00"/>
                </a:solidFill>
                <a:latin typeface="Candara"/>
              </a:rPr>
              <a:t>Площадь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5"/>
          <p:cNvGrpSpPr/>
          <p:nvPr/>
        </p:nvGrpSpPr>
        <p:grpSpPr>
          <a:xfrm>
            <a:off x="1403280" y="1989000"/>
            <a:ext cx="6329520" cy="4067280"/>
            <a:chOff x="1403280" y="1989000"/>
            <a:chExt cx="6329520" cy="4067280"/>
          </a:xfrm>
        </p:grpSpPr>
        <p:sp>
          <p:nvSpPr>
            <p:cNvPr id="458" name="AutoShape 6"/>
            <p:cNvSpPr/>
            <p:nvPr/>
          </p:nvSpPr>
          <p:spPr>
            <a:xfrm>
              <a:off x="1403280" y="1989000"/>
              <a:ext cx="6329520" cy="4067280"/>
            </a:xfrm>
            <a:custGeom>
              <a:avLst/>
              <a:gdLst>
                <a:gd name="textAreaLeft" fmla="*/ 231840 w 6329520"/>
                <a:gd name="textAreaRight" fmla="*/ 6097680 w 6329520"/>
                <a:gd name="textAreaTop" fmla="*/ 582840 h 4067280"/>
                <a:gd name="textAreaBottom" fmla="*/ 3484440 h 406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8"/>
                  </a:moveTo>
                  <a:cubicBezTo>
                    <a:pt x="6804" y="-3936"/>
                    <a:pt x="14004" y="7032"/>
                    <a:pt x="20808" y="1548"/>
                  </a:cubicBezTo>
                  <a:lnTo>
                    <a:pt x="21600" y="20052"/>
                  </a:lnTo>
                  <a:cubicBezTo>
                    <a:pt x="14796" y="25536"/>
                    <a:pt x="7596" y="14568"/>
                    <a:pt x="792" y="2005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7"/>
            <p:cNvGrpSpPr/>
            <p:nvPr/>
          </p:nvGrpSpPr>
          <p:grpSpPr>
            <a:xfrm>
              <a:off x="3175560" y="3209040"/>
              <a:ext cx="4050720" cy="2033640"/>
              <a:chOff x="3175560" y="3209040"/>
              <a:chExt cx="4050720" cy="2033640"/>
            </a:xfrm>
          </p:grpSpPr>
          <p:sp>
            <p:nvSpPr>
              <p:cNvPr id="460" name="Oval 8"/>
              <p:cNvSpPr/>
              <p:nvPr/>
            </p:nvSpPr>
            <p:spPr>
              <a:xfrm>
                <a:off x="3175560" y="3209040"/>
                <a:ext cx="4050720" cy="20336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Group 9"/>
              <p:cNvGrpSpPr/>
              <p:nvPr/>
            </p:nvGrpSpPr>
            <p:grpSpPr>
              <a:xfrm>
                <a:off x="3846240" y="3665160"/>
                <a:ext cx="2278440" cy="1305720"/>
                <a:chOff x="3846240" y="3665160"/>
                <a:chExt cx="2278440" cy="1305720"/>
              </a:xfrm>
            </p:grpSpPr>
            <p:sp>
              <p:nvSpPr>
                <p:cNvPr id="462" name="Text Box 10"/>
                <p:cNvSpPr/>
                <p:nvPr/>
              </p:nvSpPr>
              <p:spPr>
                <a:xfrm>
                  <a:off x="3846240" y="3665160"/>
                  <a:ext cx="2278440" cy="40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S – 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</a:rPr>
                    <a:t>площадь, м</a:t>
                  </a:r>
                  <a:r>
                    <a:rPr b="0" lang="ru-RU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Text Box 11"/>
                <p:cNvSpPr/>
                <p:nvPr/>
              </p:nvSpPr>
              <p:spPr>
                <a:xfrm>
                  <a:off x="3936960" y="4024440"/>
                  <a:ext cx="1753200" cy="406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– 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</a:rPr>
                    <a:t>длина, м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Text Box 12"/>
                <p:cNvSpPr/>
                <p:nvPr/>
              </p:nvSpPr>
              <p:spPr>
                <a:xfrm>
                  <a:off x="3934440" y="4428720"/>
                  <a:ext cx="2152080" cy="54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 – 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</a:rPr>
                    <a:t>ширина, м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5" name="Group 13"/>
            <p:cNvGrpSpPr/>
            <p:nvPr/>
          </p:nvGrpSpPr>
          <p:grpSpPr>
            <a:xfrm>
              <a:off x="1782720" y="2393280"/>
              <a:ext cx="2278440" cy="1220040"/>
              <a:chOff x="1782720" y="2393280"/>
              <a:chExt cx="2278440" cy="1220040"/>
            </a:xfrm>
          </p:grpSpPr>
          <p:sp>
            <p:nvSpPr>
              <p:cNvPr id="466" name="AutoShape 14"/>
              <p:cNvSpPr/>
              <p:nvPr/>
            </p:nvSpPr>
            <p:spPr>
              <a:xfrm>
                <a:off x="1782720" y="2393280"/>
                <a:ext cx="2278440" cy="1220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5"/>
              <p:cNvSpPr/>
              <p:nvPr/>
            </p:nvSpPr>
            <p:spPr>
              <a:xfrm>
                <a:off x="1934280" y="2545560"/>
                <a:ext cx="1974600" cy="91476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S = a · 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8" name="Picture 16" descr="J0336914"/>
          <p:cNvPicPr/>
          <p:nvPr/>
        </p:nvPicPr>
        <p:blipFill>
          <a:blip r:embed="rId1"/>
          <a:stretch/>
        </p:blipFill>
        <p:spPr>
          <a:xfrm>
            <a:off x="395280" y="5013360"/>
            <a:ext cx="14241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ndara"/>
              </a:rPr>
              <a:t>1 кПа = 1000 П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ndara"/>
              </a:rPr>
              <a:t>1 МПа = 1000 000 Па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ndara"/>
              </a:rPr>
              <a:t>1 гПа = 100 Па;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ndara"/>
              </a:rPr>
              <a:t>1 Па = 0,001 кПа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ndara"/>
              </a:rPr>
              <a:t>1 Па= 0,01 гПа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ndara"/>
              </a:rPr>
              <a:t>1 Па= 0,000001 МП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Candara"/>
              </a:rPr>
              <a:t>Производные единицы: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8000" y="189000"/>
            <a:ext cx="9036000" cy="6453000"/>
            <a:chOff x="108000" y="189000"/>
            <a:chExt cx="9036000" cy="6453000"/>
          </a:xfrm>
        </p:grpSpPr>
        <p:grpSp>
          <p:nvGrpSpPr>
            <p:cNvPr id="472" name="Group 3"/>
            <p:cNvGrpSpPr/>
            <p:nvPr/>
          </p:nvGrpSpPr>
          <p:grpSpPr>
            <a:xfrm>
              <a:off x="108000" y="189000"/>
              <a:ext cx="9036000" cy="6453000"/>
              <a:chOff x="108000" y="189000"/>
              <a:chExt cx="9036000" cy="645300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108000" y="189000"/>
                <a:ext cx="9036000" cy="6443280"/>
              </a:xfrm>
              <a:prstGeom prst="flowChartExtra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5"/>
              <p:cNvSpPr/>
              <p:nvPr/>
            </p:nvSpPr>
            <p:spPr>
              <a:xfrm>
                <a:off x="4614480" y="4071960"/>
                <a:ext cx="4320" cy="257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6"/>
              <p:cNvSpPr/>
              <p:nvPr/>
            </p:nvSpPr>
            <p:spPr>
              <a:xfrm>
                <a:off x="1903680" y="4062960"/>
                <a:ext cx="5446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7"/>
            <p:cNvGrpSpPr/>
            <p:nvPr/>
          </p:nvGrpSpPr>
          <p:grpSpPr>
            <a:xfrm>
              <a:off x="2162880" y="1669320"/>
              <a:ext cx="5058360" cy="4770000"/>
              <a:chOff x="2162880" y="1669320"/>
              <a:chExt cx="5058360" cy="4770000"/>
            </a:xfrm>
          </p:grpSpPr>
          <p:sp>
            <p:nvSpPr>
              <p:cNvPr id="477" name="WordArt 8"/>
              <p:cNvSpPr txBox="1"/>
              <p:nvPr/>
            </p:nvSpPr>
            <p:spPr>
              <a:xfrm>
                <a:off x="2162880" y="4743000"/>
                <a:ext cx="1343160" cy="158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Times New Roman"/>
                  </a:rPr>
                  <a:t>р</a:t>
                </a:r>
                <a:endParaRPr b="0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Times New Roman"/>
                  <a:ea typeface="Times New Roman"/>
                </a:endParaRPr>
              </a:p>
            </p:txBody>
          </p:sp>
          <p:sp>
            <p:nvSpPr>
              <p:cNvPr id="478" name="WordArt 9"/>
              <p:cNvSpPr txBox="1"/>
              <p:nvPr/>
            </p:nvSpPr>
            <p:spPr>
              <a:xfrm>
                <a:off x="3992760" y="1669320"/>
                <a:ext cx="1486800" cy="2073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Times New Roman"/>
                  </a:rPr>
                  <a:t>F</a:t>
                </a:r>
                <a:endParaRPr b="0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Times New Roman"/>
                  <a:ea typeface="Times New Roman"/>
                </a:endParaRPr>
              </a:p>
            </p:txBody>
          </p:sp>
          <p:sp>
            <p:nvSpPr>
              <p:cNvPr id="479" name="WordArt 10"/>
              <p:cNvSpPr txBox="1"/>
              <p:nvPr/>
            </p:nvSpPr>
            <p:spPr>
              <a:xfrm>
                <a:off x="5909400" y="4386960"/>
                <a:ext cx="1311840" cy="2052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Times New Roman"/>
                  </a:rPr>
                  <a:t>S</a:t>
                </a:r>
                <a:endParaRPr b="0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Times New Roman"/>
                  <a:ea typeface="Times New Roman"/>
                </a:endParaRPr>
              </a:p>
            </p:txBody>
          </p:sp>
        </p:grpSp>
      </p:grpSp>
      <p:pic>
        <p:nvPicPr>
          <p:cNvPr id="480" name="Picture 11" descr="J0336914"/>
          <p:cNvPicPr/>
          <p:nvPr/>
        </p:nvPicPr>
        <p:blipFill>
          <a:blip r:embed="rId1"/>
          <a:stretch/>
        </p:blipFill>
        <p:spPr>
          <a:xfrm>
            <a:off x="324000" y="620640"/>
            <a:ext cx="103644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250920" y="2781360"/>
            <a:ext cx="843912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80ff"/>
                </a:solidFill>
                <a:uFillTx/>
                <a:latin typeface="Candara"/>
                <a:hlinkClick r:id="rId1" action="ppaction://hlinksldjump"/>
              </a:rPr>
              <a:t>Как увеличить давл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80ff"/>
                </a:solidFill>
                <a:uFillTx/>
                <a:latin typeface="Candara"/>
                <a:hlinkClick r:id="rId2"/>
              </a:rPr>
              <a:t>Как уменьшить давл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Candara"/>
              </a:rPr>
              <a:t>Способы увеличения </a:t>
            </a:r>
            <a:br>
              <a:rPr sz="4800"/>
            </a:br>
            <a:r>
              <a:rPr b="1" lang="ru-RU" sz="4800" spc="-1" strike="noStrike">
                <a:solidFill>
                  <a:srgbClr val="993300"/>
                </a:solidFill>
                <a:latin typeface="Candara"/>
              </a:rPr>
              <a:t>и уменьшения давление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3" name="AutoShape 5">
            <a:hlinkClick r:id="rId3" action="ppaction://hlinksldjump"/>
          </p:cNvPr>
          <p:cNvSpPr/>
          <p:nvPr/>
        </p:nvSpPr>
        <p:spPr>
          <a:xfrm>
            <a:off x="8244000" y="6165720"/>
            <a:ext cx="504720" cy="35892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366" h="21600">
                <a:moveTo>
                  <a:pt x="0" y="0"/>
                </a:moveTo>
                <a:lnTo>
                  <a:pt x="30366" y="0"/>
                </a:lnTo>
                <a:lnTo>
                  <a:pt x="30366" y="21600"/>
                </a:lnTo>
                <a:lnTo>
                  <a:pt x="0" y="21600"/>
                </a:lnTo>
                <a:close/>
              </a:path>
              <a:path fill="lightenLess" w="30366" h="21600">
                <a:moveTo>
                  <a:pt x="0" y="0"/>
                </a:moveTo>
                <a:lnTo>
                  <a:pt x="30366" y="0"/>
                </a:lnTo>
                <a:lnTo>
                  <a:pt x="28966" y="1400"/>
                </a:lnTo>
                <a:lnTo>
                  <a:pt x="1400" y="1400"/>
                </a:lnTo>
                <a:close/>
              </a:path>
              <a:path fill="darken" w="30366" h="21600">
                <a:moveTo>
                  <a:pt x="30366" y="0"/>
                </a:moveTo>
                <a:lnTo>
                  <a:pt x="30366" y="21600"/>
                </a:lnTo>
                <a:lnTo>
                  <a:pt x="28966" y="20200"/>
                </a:lnTo>
                <a:lnTo>
                  <a:pt x="28966" y="1400"/>
                </a:lnTo>
                <a:close/>
              </a:path>
              <a:path fill="darkenLess" w="30366" h="21600">
                <a:moveTo>
                  <a:pt x="3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66" y="20200"/>
                </a:lnTo>
                <a:close/>
              </a:path>
              <a:path fill="lighten" w="3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66" h="21600">
                <a:moveTo>
                  <a:pt x="8176" y="3794"/>
                </a:moveTo>
                <a:lnTo>
                  <a:pt x="22189" y="10800"/>
                </a:lnTo>
                <a:lnTo>
                  <a:pt x="8176" y="17806"/>
                </a:lnTo>
                <a:close/>
              </a:path>
            </a:pathLst>
          </a:custGeom>
          <a:solidFill>
            <a:srgbClr val="5e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6" descr="vopros"/>
          <p:cNvPicPr/>
          <p:nvPr/>
        </p:nvPicPr>
        <p:blipFill>
          <a:blip r:embed="rId4"/>
          <a:stretch/>
        </p:blipFill>
        <p:spPr>
          <a:xfrm>
            <a:off x="6300720" y="2708280"/>
            <a:ext cx="287280" cy="5713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7" descr="vopros"/>
          <p:cNvPicPr/>
          <p:nvPr/>
        </p:nvPicPr>
        <p:blipFill>
          <a:blip r:embed="rId5"/>
          <a:stretch/>
        </p:blipFill>
        <p:spPr>
          <a:xfrm>
            <a:off x="6227640" y="3716280"/>
            <a:ext cx="400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3300"/>
                </a:solidFill>
                <a:latin typeface="Candara"/>
              </a:rPr>
              <a:t>Увеличение давления в природе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Text Box 4"/>
          <p:cNvSpPr/>
          <p:nvPr/>
        </p:nvSpPr>
        <p:spPr>
          <a:xfrm flipV="1" rot="10800000">
            <a:off x="1617480" y="6081480"/>
            <a:ext cx="64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Жало насеко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6" descr="C:\Мои документы\Мамина папка\Школа\07 класс Физика\Планы\Давление телеурок\Сергей\sting.jpg"/>
          <p:cNvPicPr/>
          <p:nvPr/>
        </p:nvPicPr>
        <p:blipFill>
          <a:blip r:embed="rId1"/>
          <a:stretch/>
        </p:blipFill>
        <p:spPr>
          <a:xfrm>
            <a:off x="611280" y="1268280"/>
            <a:ext cx="745164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Candara"/>
              </a:rPr>
              <a:t>Увеличение давления в природ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2743200" y="60199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оготь живо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6" descr="C:\Мои документы\Мамина папка\Школа\07 класс Физика\Планы\Давление телеурок\Коготь.jpg"/>
          <p:cNvPicPr/>
          <p:nvPr/>
        </p:nvPicPr>
        <p:blipFill>
          <a:blip r:embed="rId1"/>
          <a:srcRect l="616" t="0" r="0" b="13575"/>
          <a:stretch/>
        </p:blipFill>
        <p:spPr>
          <a:xfrm>
            <a:off x="395280" y="119700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andara"/>
              </a:rPr>
              <a:t>Увеличение давления в природ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1403280" y="61657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убы у крокод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6" descr="C:\Мои документы\Мамина папка\Школа\07 класс Физика\Планы\Давление телеурок\New Folder\crocodile.jpg"/>
          <p:cNvPicPr/>
          <p:nvPr/>
        </p:nvPicPr>
        <p:blipFill>
          <a:blip r:embed="rId1"/>
          <a:stretch/>
        </p:blipFill>
        <p:spPr>
          <a:xfrm>
            <a:off x="324000" y="1197000"/>
            <a:ext cx="78483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сканирование0001"/>
          <p:cNvPicPr/>
          <p:nvPr/>
        </p:nvPicPr>
        <p:blipFill>
          <a:blip r:embed="rId1"/>
          <a:srcRect l="1629" t="0" r="-244" b="3086"/>
          <a:stretch/>
        </p:blipFill>
        <p:spPr>
          <a:xfrm>
            <a:off x="468360" y="2060640"/>
            <a:ext cx="4248000" cy="31384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Candara"/>
              </a:rPr>
              <a:t>Давление твердых тел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788000" y="2276640"/>
            <a:ext cx="43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на лыжах человек проваливается меньш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м без них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24000" y="148428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ьте рассказ по рису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324000" y="558972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: результат действия силы зависит не только от ее модуля, направления и точки приложения, но и от площади поверхности, перпендикулярно которой действует си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920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Candara"/>
              </a:rPr>
              <a:t>Увеличение давления в природ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3276720" y="6237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люв 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6" descr="C:\Мои документы\Мамина папка\Школа\07 класс Физика\Планы\Давление телеурок\Сергей\eagle.gif"/>
          <p:cNvPicPr/>
          <p:nvPr/>
        </p:nvPicPr>
        <p:blipFill>
          <a:blip r:embed="rId1"/>
          <a:srcRect l="0" t="2060" r="0" b="0"/>
          <a:stretch/>
        </p:blipFill>
        <p:spPr>
          <a:xfrm>
            <a:off x="324000" y="1125360"/>
            <a:ext cx="8569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3520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Candara"/>
              </a:rPr>
              <a:t>Уменьшение давления в технике</a:t>
            </a:r>
            <a:endParaRPr b="0" lang="en-US" sz="4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99" name="Picture 6" descr="C:\Мои документы\Мамина папка\Школа\07 класс Физика\Планы\Давление телеурок\New Folder\tracks3.jpg"/>
          <p:cNvPicPr/>
          <p:nvPr/>
        </p:nvPicPr>
        <p:blipFill>
          <a:blip r:embed="rId1"/>
          <a:stretch/>
        </p:blipFill>
        <p:spPr>
          <a:xfrm>
            <a:off x="539640" y="1268280"/>
            <a:ext cx="8064720" cy="511344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7"/>
          <p:cNvSpPr/>
          <p:nvPr/>
        </p:nvSpPr>
        <p:spPr>
          <a:xfrm>
            <a:off x="3564000" y="64911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Железная дор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280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andara"/>
              </a:rPr>
              <a:t>Уменьшение давления в технике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02" name="Picture 4" descr="C:\Мои документы\Мамина папка\Школа\07 класс Физика\Планы\Давление телеурок\New Folder\foundation.jpg"/>
          <p:cNvPicPr/>
          <p:nvPr/>
        </p:nvPicPr>
        <p:blipFill>
          <a:blip r:embed="rId1"/>
          <a:stretch/>
        </p:blipFill>
        <p:spPr>
          <a:xfrm>
            <a:off x="539640" y="1197000"/>
            <a:ext cx="8137800" cy="46800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5"/>
          <p:cNvSpPr/>
          <p:nvPr/>
        </p:nvSpPr>
        <p:spPr>
          <a:xfrm>
            <a:off x="1905120" y="5943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акладка фундамента 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вездеход 2"/>
          <p:cNvPicPr/>
          <p:nvPr/>
        </p:nvPicPr>
        <p:blipFill>
          <a:blip r:embed="rId1"/>
          <a:stretch/>
        </p:blipFill>
        <p:spPr>
          <a:xfrm>
            <a:off x="179280" y="2205000"/>
            <a:ext cx="4496040" cy="32958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" descr="вездеход на гусеницах"/>
          <p:cNvPicPr/>
          <p:nvPr/>
        </p:nvPicPr>
        <p:blipFill>
          <a:blip r:embed="rId2"/>
          <a:stretch/>
        </p:blipFill>
        <p:spPr>
          <a:xfrm>
            <a:off x="4716360" y="2421000"/>
            <a:ext cx="4130640" cy="342900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5"/>
          <p:cNvSpPr/>
          <p:nvPr/>
        </p:nvSpPr>
        <p:spPr>
          <a:xfrm>
            <a:off x="684360" y="189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Уменьшение давления в техн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1173240" y="2529000"/>
            <a:ext cx="345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684360" y="189000"/>
          <a:ext cx="8172360" cy="6261120"/>
        </p:xfrm>
        <a:graphic>
          <a:graphicData uri="http://schemas.openxmlformats.org/drawingml/2006/table">
            <a:tbl>
              <a:tblPr/>
              <a:tblGrid>
                <a:gridCol w="4086000"/>
                <a:gridCol w="4086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Уменьшение давл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Увеличение давл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Фундамент зд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Шасси самоле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Широкие шины автомобиле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Гусеницы вездеходов, тракторо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Лыж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Шайбы под гай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Шпалы под рельс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Топо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Но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Гвозди, кноп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Игол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Зубы, когти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клювы звере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Шипы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колючки растени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Жало ос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  <p:sndAc>
      <p:stSnd>
        <p:snd r:embed="rId1" name="push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3"/>
          <p:cNvSpPr/>
          <p:nvPr/>
        </p:nvSpPr>
        <p:spPr>
          <a:xfrm>
            <a:off x="250920" y="155736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ходе операции «Багратион» войскам 1-го Белорусского фронта под командованием генерала армии К.К. Рокоссовского предстояло нелегкое дело: стремительно пройти с боями гиблые заболоченные м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воспоминаний К.К. Рокоссовского: «Люди готовили себя к этому подвигу. Пехотинцы невдалеке от переднего края учились плавать, преодолевать болота и речки на подручных средствах, ориентироваться в лесу. Было изготовлено множество мокроступов — болотных лыж, волокуш для пулеметов, минометов и легкой артиллерии, сделаны лодки и плоты. У танкистов — своя тренировка. Помнится, как-то генерал Батов показал мне „танкодром“ на болоте в армейском тылу. Через полтора часа мы наблюдали, как машина за машиной лезли в топь и преодолевали ее. Вместе с саперами танкисты снабдили каждый танк фашинами, бревнами и специальными треугольниками для прохода через широкие рвы…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1" descr="C:\Users\Администратор\Desktop\31.03\слайды и материалы к уроку\использование бревен для танков.jpg"/>
          <p:cNvPicPr/>
          <p:nvPr/>
        </p:nvPicPr>
        <p:blipFill>
          <a:blip r:embed="rId1"/>
          <a:stretch/>
        </p:blipFill>
        <p:spPr>
          <a:xfrm>
            <a:off x="127080" y="1155600"/>
            <a:ext cx="888984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C:\Users\Администратор\Desktop\31.03\слайды и материалы к уроку\мокроступы.jpg"/>
          <p:cNvPicPr/>
          <p:nvPr/>
        </p:nvPicPr>
        <p:blipFill>
          <a:blip r:embed="rId1"/>
          <a:stretch/>
        </p:blipFill>
        <p:spPr>
          <a:xfrm>
            <a:off x="900000" y="1268280"/>
            <a:ext cx="3384720" cy="49690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C:\Users\Администратор\Desktop\31.03\слайды и материалы к уроку\Мокроступы для строительных работ 1.jpg"/>
          <p:cNvPicPr/>
          <p:nvPr/>
        </p:nvPicPr>
        <p:blipFill>
          <a:blip r:embed="rId2"/>
          <a:stretch/>
        </p:blipFill>
        <p:spPr>
          <a:xfrm>
            <a:off x="4788000" y="1320840"/>
            <a:ext cx="367164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Candara"/>
              </a:rPr>
              <a:t>Примерные значения давлений,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Candara"/>
              </a:rPr>
              <a:t>встречающихся в технике и быту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14" name="Picture 3" descr="8"/>
          <p:cNvPicPr/>
          <p:nvPr/>
        </p:nvPicPr>
        <p:blipFill>
          <a:blip r:embed="rId1"/>
          <a:stretch/>
        </p:blipFill>
        <p:spPr>
          <a:xfrm>
            <a:off x="1187280" y="1484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7"/>
          <p:cNvPicPr/>
          <p:nvPr/>
        </p:nvPicPr>
        <p:blipFill>
          <a:blip r:embed="rId2"/>
          <a:stretch/>
        </p:blipFill>
        <p:spPr>
          <a:xfrm>
            <a:off x="5148360" y="1484280"/>
            <a:ext cx="2592360" cy="194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Picture 5" descr="10"/>
          <p:cNvPicPr/>
          <p:nvPr/>
        </p:nvPicPr>
        <p:blipFill>
          <a:blip r:embed="rId3"/>
          <a:stretch/>
        </p:blipFill>
        <p:spPr>
          <a:xfrm>
            <a:off x="1258920" y="4221000"/>
            <a:ext cx="2663640" cy="1997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Text Box 6"/>
          <p:cNvSpPr/>
          <p:nvPr/>
        </p:nvSpPr>
        <p:spPr>
          <a:xfrm>
            <a:off x="1692360" y="3573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0-50 к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5580000" y="35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0-300 к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1763640" y="6308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0000 к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9"/>
          <p:cNvGrpSpPr/>
          <p:nvPr/>
        </p:nvGrpSpPr>
        <p:grpSpPr>
          <a:xfrm>
            <a:off x="5795640" y="4292640"/>
            <a:ext cx="1440000" cy="1800360"/>
            <a:chOff x="5795640" y="4292640"/>
            <a:chExt cx="1440000" cy="1800360"/>
          </a:xfrm>
        </p:grpSpPr>
        <p:sp>
          <p:nvSpPr>
            <p:cNvPr id="521" name="Oval 10"/>
            <p:cNvSpPr/>
            <p:nvPr/>
          </p:nvSpPr>
          <p:spPr>
            <a:xfrm>
              <a:off x="6011640" y="4292640"/>
              <a:ext cx="289080" cy="288720"/>
            </a:xfrm>
            <a:prstGeom prst="ellipse">
              <a:avLst/>
            </a:prstGeom>
            <a:solidFill>
              <a:srgbClr val="31b6f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1"/>
            <p:cNvSpPr/>
            <p:nvPr/>
          </p:nvSpPr>
          <p:spPr>
            <a:xfrm>
              <a:off x="6156360" y="4653000"/>
              <a:ext cx="215640" cy="72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2"/>
            <p:cNvSpPr/>
            <p:nvPr/>
          </p:nvSpPr>
          <p:spPr>
            <a:xfrm flipH="1">
              <a:off x="6227280" y="5445000"/>
              <a:ext cx="144360" cy="216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3"/>
            <p:cNvSpPr/>
            <p:nvPr/>
          </p:nvSpPr>
          <p:spPr>
            <a:xfrm>
              <a:off x="6227640" y="5734080"/>
              <a:ext cx="216000" cy="35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14"/>
            <p:cNvSpPr/>
            <p:nvPr/>
          </p:nvSpPr>
          <p:spPr>
            <a:xfrm flipH="1">
              <a:off x="6227640" y="6093000"/>
              <a:ext cx="216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5"/>
            <p:cNvSpPr/>
            <p:nvPr/>
          </p:nvSpPr>
          <p:spPr>
            <a:xfrm>
              <a:off x="6443640" y="5445000"/>
              <a:ext cx="360360" cy="28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6"/>
            <p:cNvSpPr/>
            <p:nvPr/>
          </p:nvSpPr>
          <p:spPr>
            <a:xfrm flipV="1">
              <a:off x="6877080" y="5660640"/>
              <a:ext cx="21564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7"/>
            <p:cNvSpPr/>
            <p:nvPr/>
          </p:nvSpPr>
          <p:spPr>
            <a:xfrm>
              <a:off x="7092720" y="5661000"/>
              <a:ext cx="142920" cy="216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8"/>
            <p:cNvSpPr/>
            <p:nvPr/>
          </p:nvSpPr>
          <p:spPr>
            <a:xfrm flipH="1">
              <a:off x="6011640" y="4869000"/>
              <a:ext cx="216000" cy="215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9"/>
            <p:cNvSpPr/>
            <p:nvPr/>
          </p:nvSpPr>
          <p:spPr>
            <a:xfrm flipH="1" flipV="1">
              <a:off x="5795640" y="5084280"/>
              <a:ext cx="21564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0"/>
            <p:cNvSpPr/>
            <p:nvPr/>
          </p:nvSpPr>
          <p:spPr>
            <a:xfrm>
              <a:off x="6300720" y="4941720"/>
              <a:ext cx="28728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1"/>
            <p:cNvSpPr/>
            <p:nvPr/>
          </p:nvSpPr>
          <p:spPr>
            <a:xfrm>
              <a:off x="6588000" y="5013360"/>
              <a:ext cx="73080" cy="144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Text Box 22"/>
          <p:cNvSpPr/>
          <p:nvPr/>
        </p:nvSpPr>
        <p:spPr>
          <a:xfrm>
            <a:off x="5867280" y="6308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0-400 к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3" descr="8"/>
          <p:cNvPicPr/>
          <p:nvPr/>
        </p:nvPicPr>
        <p:blipFill>
          <a:blip r:embed="rId4"/>
          <a:stretch/>
        </p:blipFill>
        <p:spPr>
          <a:xfrm>
            <a:off x="1187280" y="1484280"/>
            <a:ext cx="2664000" cy="1998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§ 33; § 34 Упр.12 (1,2,3,4 )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Candara"/>
              </a:rPr>
              <a:t>Домашнее задание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2"/>
          <p:cNvSpPr/>
          <p:nvPr/>
        </p:nvSpPr>
        <p:spPr>
          <a:xfrm rot="537000">
            <a:off x="2123640" y="2491920"/>
            <a:ext cx="1008000" cy="825480"/>
          </a:xfrm>
          <a:custGeom>
            <a:avLst/>
            <a:gdLst/>
            <a:ahLst/>
            <a:rect l="l" t="t" r="r" b="b"/>
            <a:pathLst>
              <a:path w="833" h="1189">
                <a:moveTo>
                  <a:pt x="466" y="23"/>
                </a:moveTo>
                <a:cubicBezTo>
                  <a:pt x="432" y="153"/>
                  <a:pt x="478" y="0"/>
                  <a:pt x="429" y="109"/>
                </a:cubicBezTo>
                <a:cubicBezTo>
                  <a:pt x="386" y="206"/>
                  <a:pt x="412" y="173"/>
                  <a:pt x="343" y="256"/>
                </a:cubicBezTo>
                <a:cubicBezTo>
                  <a:pt x="334" y="267"/>
                  <a:pt x="329" y="281"/>
                  <a:pt x="319" y="292"/>
                </a:cubicBezTo>
                <a:cubicBezTo>
                  <a:pt x="296" y="318"/>
                  <a:pt x="245" y="366"/>
                  <a:pt x="245" y="366"/>
                </a:cubicBezTo>
                <a:cubicBezTo>
                  <a:pt x="288" y="409"/>
                  <a:pt x="309" y="413"/>
                  <a:pt x="368" y="427"/>
                </a:cubicBezTo>
                <a:cubicBezTo>
                  <a:pt x="313" y="445"/>
                  <a:pt x="270" y="492"/>
                  <a:pt x="221" y="525"/>
                </a:cubicBezTo>
                <a:cubicBezTo>
                  <a:pt x="209" y="533"/>
                  <a:pt x="184" y="550"/>
                  <a:pt x="184" y="550"/>
                </a:cubicBezTo>
                <a:cubicBezTo>
                  <a:pt x="180" y="566"/>
                  <a:pt x="170" y="582"/>
                  <a:pt x="172" y="599"/>
                </a:cubicBezTo>
                <a:cubicBezTo>
                  <a:pt x="182" y="669"/>
                  <a:pt x="298" y="695"/>
                  <a:pt x="355" y="709"/>
                </a:cubicBezTo>
                <a:cubicBezTo>
                  <a:pt x="307" y="741"/>
                  <a:pt x="264" y="780"/>
                  <a:pt x="208" y="795"/>
                </a:cubicBezTo>
                <a:cubicBezTo>
                  <a:pt x="176" y="804"/>
                  <a:pt x="110" y="819"/>
                  <a:pt x="110" y="819"/>
                </a:cubicBezTo>
                <a:cubicBezTo>
                  <a:pt x="106" y="831"/>
                  <a:pt x="92" y="844"/>
                  <a:pt x="98" y="856"/>
                </a:cubicBezTo>
                <a:cubicBezTo>
                  <a:pt x="104" y="868"/>
                  <a:pt x="123" y="862"/>
                  <a:pt x="135" y="868"/>
                </a:cubicBezTo>
                <a:cubicBezTo>
                  <a:pt x="164" y="882"/>
                  <a:pt x="177" y="921"/>
                  <a:pt x="208" y="930"/>
                </a:cubicBezTo>
                <a:cubicBezTo>
                  <a:pt x="247" y="942"/>
                  <a:pt x="290" y="938"/>
                  <a:pt x="331" y="942"/>
                </a:cubicBezTo>
                <a:cubicBezTo>
                  <a:pt x="234" y="1005"/>
                  <a:pt x="113" y="1053"/>
                  <a:pt x="0" y="1077"/>
                </a:cubicBezTo>
                <a:cubicBezTo>
                  <a:pt x="172" y="1189"/>
                  <a:pt x="344" y="1073"/>
                  <a:pt x="515" y="1052"/>
                </a:cubicBezTo>
                <a:cubicBezTo>
                  <a:pt x="564" y="1046"/>
                  <a:pt x="613" y="1046"/>
                  <a:pt x="662" y="1040"/>
                </a:cubicBezTo>
                <a:cubicBezTo>
                  <a:pt x="719" y="1033"/>
                  <a:pt x="833" y="1015"/>
                  <a:pt x="833" y="1015"/>
                </a:cubicBezTo>
                <a:cubicBezTo>
                  <a:pt x="785" y="999"/>
                  <a:pt x="716" y="993"/>
                  <a:pt x="674" y="966"/>
                </a:cubicBezTo>
                <a:cubicBezTo>
                  <a:pt x="626" y="935"/>
                  <a:pt x="651" y="947"/>
                  <a:pt x="600" y="930"/>
                </a:cubicBezTo>
                <a:cubicBezTo>
                  <a:pt x="588" y="922"/>
                  <a:pt x="564" y="920"/>
                  <a:pt x="564" y="905"/>
                </a:cubicBezTo>
                <a:cubicBezTo>
                  <a:pt x="564" y="892"/>
                  <a:pt x="587" y="895"/>
                  <a:pt x="600" y="893"/>
                </a:cubicBezTo>
                <a:cubicBezTo>
                  <a:pt x="653" y="886"/>
                  <a:pt x="707" y="885"/>
                  <a:pt x="760" y="881"/>
                </a:cubicBezTo>
                <a:cubicBezTo>
                  <a:pt x="695" y="858"/>
                  <a:pt x="672" y="805"/>
                  <a:pt x="625" y="758"/>
                </a:cubicBezTo>
                <a:cubicBezTo>
                  <a:pt x="621" y="746"/>
                  <a:pt x="620" y="732"/>
                  <a:pt x="613" y="721"/>
                </a:cubicBezTo>
                <a:cubicBezTo>
                  <a:pt x="577" y="668"/>
                  <a:pt x="522" y="677"/>
                  <a:pt x="662" y="697"/>
                </a:cubicBezTo>
                <a:cubicBezTo>
                  <a:pt x="686" y="705"/>
                  <a:pt x="711" y="713"/>
                  <a:pt x="735" y="721"/>
                </a:cubicBezTo>
                <a:cubicBezTo>
                  <a:pt x="747" y="725"/>
                  <a:pt x="699" y="709"/>
                  <a:pt x="699" y="709"/>
                </a:cubicBezTo>
                <a:cubicBezTo>
                  <a:pt x="736" y="705"/>
                  <a:pt x="790" y="729"/>
                  <a:pt x="809" y="697"/>
                </a:cubicBezTo>
                <a:cubicBezTo>
                  <a:pt x="824" y="672"/>
                  <a:pt x="760" y="664"/>
                  <a:pt x="735" y="648"/>
                </a:cubicBezTo>
                <a:cubicBezTo>
                  <a:pt x="706" y="629"/>
                  <a:pt x="686" y="599"/>
                  <a:pt x="662" y="574"/>
                </a:cubicBezTo>
                <a:cubicBezTo>
                  <a:pt x="589" y="500"/>
                  <a:pt x="630" y="524"/>
                  <a:pt x="600" y="464"/>
                </a:cubicBezTo>
                <a:cubicBezTo>
                  <a:pt x="593" y="451"/>
                  <a:pt x="564" y="435"/>
                  <a:pt x="576" y="427"/>
                </a:cubicBezTo>
                <a:cubicBezTo>
                  <a:pt x="587" y="419"/>
                  <a:pt x="657" y="446"/>
                  <a:pt x="674" y="452"/>
                </a:cubicBezTo>
                <a:cubicBezTo>
                  <a:pt x="662" y="416"/>
                  <a:pt x="646" y="318"/>
                  <a:pt x="613" y="292"/>
                </a:cubicBezTo>
                <a:cubicBezTo>
                  <a:pt x="603" y="284"/>
                  <a:pt x="588" y="284"/>
                  <a:pt x="576" y="280"/>
                </a:cubicBezTo>
                <a:cubicBezTo>
                  <a:pt x="537" y="161"/>
                  <a:pt x="602" y="339"/>
                  <a:pt x="527" y="207"/>
                </a:cubicBezTo>
                <a:cubicBezTo>
                  <a:pt x="514" y="184"/>
                  <a:pt x="510" y="158"/>
                  <a:pt x="502" y="133"/>
                </a:cubicBezTo>
                <a:cubicBezTo>
                  <a:pt x="497" y="119"/>
                  <a:pt x="483" y="110"/>
                  <a:pt x="478" y="96"/>
                </a:cubicBezTo>
                <a:cubicBezTo>
                  <a:pt x="470" y="73"/>
                  <a:pt x="470" y="47"/>
                  <a:pt x="466" y="23"/>
                </a:cubicBezTo>
                <a:close/>
              </a:path>
            </a:pathLst>
          </a:custGeom>
          <a:solidFill>
            <a:srgbClr val="56a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-612720" y="2349360"/>
            <a:ext cx="9756720" cy="4896000"/>
          </a:xfrm>
          <a:custGeom>
            <a:avLst/>
            <a:gdLst/>
            <a:ahLst/>
            <a:rect l="l" t="t" r="r" b="b"/>
            <a:pathLst>
              <a:path w="6191" h="3079">
                <a:moveTo>
                  <a:pt x="3467" y="776"/>
                </a:moveTo>
                <a:cubicBezTo>
                  <a:pt x="3479" y="768"/>
                  <a:pt x="3491" y="758"/>
                  <a:pt x="3504" y="751"/>
                </a:cubicBezTo>
                <a:cubicBezTo>
                  <a:pt x="3515" y="745"/>
                  <a:pt x="3529" y="745"/>
                  <a:pt x="3540" y="739"/>
                </a:cubicBezTo>
                <a:cubicBezTo>
                  <a:pt x="3629" y="689"/>
                  <a:pt x="3712" y="624"/>
                  <a:pt x="3798" y="568"/>
                </a:cubicBezTo>
                <a:cubicBezTo>
                  <a:pt x="3833" y="545"/>
                  <a:pt x="3905" y="529"/>
                  <a:pt x="3945" y="506"/>
                </a:cubicBezTo>
                <a:cubicBezTo>
                  <a:pt x="4020" y="464"/>
                  <a:pt x="4083" y="399"/>
                  <a:pt x="4165" y="372"/>
                </a:cubicBezTo>
                <a:cubicBezTo>
                  <a:pt x="4190" y="356"/>
                  <a:pt x="4218" y="344"/>
                  <a:pt x="4239" y="323"/>
                </a:cubicBezTo>
                <a:cubicBezTo>
                  <a:pt x="4251" y="311"/>
                  <a:pt x="4261" y="295"/>
                  <a:pt x="4276" y="286"/>
                </a:cubicBezTo>
                <a:cubicBezTo>
                  <a:pt x="4312" y="266"/>
                  <a:pt x="4358" y="261"/>
                  <a:pt x="4398" y="249"/>
                </a:cubicBezTo>
                <a:cubicBezTo>
                  <a:pt x="4470" y="228"/>
                  <a:pt x="4533" y="206"/>
                  <a:pt x="4607" y="188"/>
                </a:cubicBezTo>
                <a:cubicBezTo>
                  <a:pt x="4675" y="171"/>
                  <a:pt x="4746" y="176"/>
                  <a:pt x="4815" y="163"/>
                </a:cubicBezTo>
                <a:cubicBezTo>
                  <a:pt x="4911" y="144"/>
                  <a:pt x="5022" y="79"/>
                  <a:pt x="5121" y="77"/>
                </a:cubicBezTo>
                <a:cubicBezTo>
                  <a:pt x="5301" y="73"/>
                  <a:pt x="5481" y="69"/>
                  <a:pt x="5661" y="65"/>
                </a:cubicBezTo>
                <a:cubicBezTo>
                  <a:pt x="5814" y="35"/>
                  <a:pt x="5992" y="0"/>
                  <a:pt x="6126" y="90"/>
                </a:cubicBezTo>
                <a:cubicBezTo>
                  <a:pt x="6139" y="130"/>
                  <a:pt x="6162" y="160"/>
                  <a:pt x="6175" y="200"/>
                </a:cubicBezTo>
                <a:cubicBezTo>
                  <a:pt x="6191" y="379"/>
                  <a:pt x="6184" y="543"/>
                  <a:pt x="6138" y="715"/>
                </a:cubicBezTo>
                <a:cubicBezTo>
                  <a:pt x="6124" y="911"/>
                  <a:pt x="6102" y="1114"/>
                  <a:pt x="6163" y="1303"/>
                </a:cubicBezTo>
                <a:cubicBezTo>
                  <a:pt x="6190" y="1525"/>
                  <a:pt x="6177" y="1739"/>
                  <a:pt x="6126" y="1953"/>
                </a:cubicBezTo>
                <a:cubicBezTo>
                  <a:pt x="6139" y="2085"/>
                  <a:pt x="6159" y="2160"/>
                  <a:pt x="6126" y="2296"/>
                </a:cubicBezTo>
                <a:cubicBezTo>
                  <a:pt x="6122" y="2418"/>
                  <a:pt x="6121" y="2541"/>
                  <a:pt x="6114" y="2663"/>
                </a:cubicBezTo>
                <a:cubicBezTo>
                  <a:pt x="6109" y="2745"/>
                  <a:pt x="5968" y="2771"/>
                  <a:pt x="5906" y="2786"/>
                </a:cubicBezTo>
                <a:cubicBezTo>
                  <a:pt x="5771" y="2782"/>
                  <a:pt x="5636" y="2782"/>
                  <a:pt x="5501" y="2774"/>
                </a:cubicBezTo>
                <a:cubicBezTo>
                  <a:pt x="5471" y="2772"/>
                  <a:pt x="5444" y="2757"/>
                  <a:pt x="5415" y="2749"/>
                </a:cubicBezTo>
                <a:cubicBezTo>
                  <a:pt x="5390" y="2742"/>
                  <a:pt x="5342" y="2725"/>
                  <a:pt x="5342" y="2725"/>
                </a:cubicBezTo>
                <a:cubicBezTo>
                  <a:pt x="5122" y="2733"/>
                  <a:pt x="5049" y="2733"/>
                  <a:pt x="4876" y="2761"/>
                </a:cubicBezTo>
                <a:cubicBezTo>
                  <a:pt x="4594" y="2860"/>
                  <a:pt x="4827" y="2783"/>
                  <a:pt x="4055" y="2761"/>
                </a:cubicBezTo>
                <a:cubicBezTo>
                  <a:pt x="4037" y="2760"/>
                  <a:pt x="3918" y="2741"/>
                  <a:pt x="3896" y="2737"/>
                </a:cubicBezTo>
                <a:cubicBezTo>
                  <a:pt x="3851" y="2729"/>
                  <a:pt x="3761" y="2712"/>
                  <a:pt x="3761" y="2712"/>
                </a:cubicBezTo>
                <a:cubicBezTo>
                  <a:pt x="3575" y="2720"/>
                  <a:pt x="3453" y="2733"/>
                  <a:pt x="3283" y="2761"/>
                </a:cubicBezTo>
                <a:cubicBezTo>
                  <a:pt x="3097" y="2826"/>
                  <a:pt x="2850" y="2778"/>
                  <a:pt x="2682" y="2774"/>
                </a:cubicBezTo>
                <a:cubicBezTo>
                  <a:pt x="2621" y="2758"/>
                  <a:pt x="2561" y="2740"/>
                  <a:pt x="2499" y="2725"/>
                </a:cubicBezTo>
                <a:cubicBezTo>
                  <a:pt x="2474" y="2719"/>
                  <a:pt x="2425" y="2700"/>
                  <a:pt x="2425" y="2700"/>
                </a:cubicBezTo>
                <a:cubicBezTo>
                  <a:pt x="2352" y="2704"/>
                  <a:pt x="2278" y="2705"/>
                  <a:pt x="2205" y="2712"/>
                </a:cubicBezTo>
                <a:cubicBezTo>
                  <a:pt x="2136" y="2719"/>
                  <a:pt x="2068" y="2758"/>
                  <a:pt x="1996" y="2761"/>
                </a:cubicBezTo>
                <a:cubicBezTo>
                  <a:pt x="1812" y="2768"/>
                  <a:pt x="1629" y="2770"/>
                  <a:pt x="1445" y="2774"/>
                </a:cubicBezTo>
                <a:cubicBezTo>
                  <a:pt x="0" y="2754"/>
                  <a:pt x="473" y="3079"/>
                  <a:pt x="501" y="1266"/>
                </a:cubicBezTo>
                <a:cubicBezTo>
                  <a:pt x="501" y="1253"/>
                  <a:pt x="509" y="1241"/>
                  <a:pt x="513" y="1229"/>
                </a:cubicBezTo>
                <a:cubicBezTo>
                  <a:pt x="502" y="1022"/>
                  <a:pt x="463" y="809"/>
                  <a:pt x="513" y="604"/>
                </a:cubicBezTo>
                <a:cubicBezTo>
                  <a:pt x="494" y="526"/>
                  <a:pt x="487" y="532"/>
                  <a:pt x="501" y="445"/>
                </a:cubicBezTo>
                <a:cubicBezTo>
                  <a:pt x="505" y="392"/>
                  <a:pt x="499" y="337"/>
                  <a:pt x="513" y="286"/>
                </a:cubicBezTo>
                <a:cubicBezTo>
                  <a:pt x="523" y="247"/>
                  <a:pt x="624" y="237"/>
                  <a:pt x="624" y="237"/>
                </a:cubicBezTo>
                <a:cubicBezTo>
                  <a:pt x="707" y="292"/>
                  <a:pt x="782" y="310"/>
                  <a:pt x="881" y="323"/>
                </a:cubicBezTo>
                <a:cubicBezTo>
                  <a:pt x="877" y="351"/>
                  <a:pt x="869" y="379"/>
                  <a:pt x="869" y="408"/>
                </a:cubicBezTo>
                <a:cubicBezTo>
                  <a:pt x="869" y="425"/>
                  <a:pt x="865" y="453"/>
                  <a:pt x="881" y="457"/>
                </a:cubicBezTo>
                <a:cubicBezTo>
                  <a:pt x="929" y="468"/>
                  <a:pt x="979" y="449"/>
                  <a:pt x="1028" y="445"/>
                </a:cubicBezTo>
                <a:cubicBezTo>
                  <a:pt x="1074" y="430"/>
                  <a:pt x="1098" y="399"/>
                  <a:pt x="1138" y="372"/>
                </a:cubicBezTo>
                <a:cubicBezTo>
                  <a:pt x="1150" y="384"/>
                  <a:pt x="1165" y="394"/>
                  <a:pt x="1175" y="408"/>
                </a:cubicBezTo>
                <a:cubicBezTo>
                  <a:pt x="1206" y="455"/>
                  <a:pt x="1159" y="445"/>
                  <a:pt x="1224" y="482"/>
                </a:cubicBezTo>
                <a:cubicBezTo>
                  <a:pt x="1239" y="490"/>
                  <a:pt x="1257" y="490"/>
                  <a:pt x="1273" y="494"/>
                </a:cubicBezTo>
                <a:cubicBezTo>
                  <a:pt x="1376" y="486"/>
                  <a:pt x="1457" y="489"/>
                  <a:pt x="1543" y="433"/>
                </a:cubicBezTo>
                <a:cubicBezTo>
                  <a:pt x="1551" y="421"/>
                  <a:pt x="1555" y="404"/>
                  <a:pt x="1567" y="396"/>
                </a:cubicBezTo>
                <a:cubicBezTo>
                  <a:pt x="1589" y="382"/>
                  <a:pt x="1641" y="372"/>
                  <a:pt x="1641" y="372"/>
                </a:cubicBezTo>
                <a:cubicBezTo>
                  <a:pt x="1756" y="409"/>
                  <a:pt x="1875" y="402"/>
                  <a:pt x="1996" y="408"/>
                </a:cubicBezTo>
                <a:cubicBezTo>
                  <a:pt x="2089" y="471"/>
                  <a:pt x="1971" y="397"/>
                  <a:pt x="2082" y="445"/>
                </a:cubicBezTo>
                <a:cubicBezTo>
                  <a:pt x="2096" y="451"/>
                  <a:pt x="2105" y="464"/>
                  <a:pt x="2119" y="470"/>
                </a:cubicBezTo>
                <a:cubicBezTo>
                  <a:pt x="2204" y="508"/>
                  <a:pt x="2248" y="498"/>
                  <a:pt x="2352" y="506"/>
                </a:cubicBezTo>
                <a:cubicBezTo>
                  <a:pt x="2405" y="525"/>
                  <a:pt x="2457" y="542"/>
                  <a:pt x="2511" y="555"/>
                </a:cubicBezTo>
                <a:cubicBezTo>
                  <a:pt x="2562" y="606"/>
                  <a:pt x="2586" y="618"/>
                  <a:pt x="2658" y="641"/>
                </a:cubicBezTo>
                <a:cubicBezTo>
                  <a:pt x="2670" y="645"/>
                  <a:pt x="2695" y="653"/>
                  <a:pt x="2695" y="653"/>
                </a:cubicBezTo>
                <a:cubicBezTo>
                  <a:pt x="2742" y="685"/>
                  <a:pt x="2773" y="691"/>
                  <a:pt x="2830" y="702"/>
                </a:cubicBezTo>
                <a:cubicBezTo>
                  <a:pt x="2842" y="710"/>
                  <a:pt x="2856" y="717"/>
                  <a:pt x="2866" y="727"/>
                </a:cubicBezTo>
                <a:cubicBezTo>
                  <a:pt x="2876" y="738"/>
                  <a:pt x="2879" y="755"/>
                  <a:pt x="2891" y="764"/>
                </a:cubicBezTo>
                <a:cubicBezTo>
                  <a:pt x="2899" y="770"/>
                  <a:pt x="2974" y="787"/>
                  <a:pt x="2977" y="788"/>
                </a:cubicBezTo>
                <a:cubicBezTo>
                  <a:pt x="3045" y="835"/>
                  <a:pt x="3129" y="821"/>
                  <a:pt x="3209" y="837"/>
                </a:cubicBezTo>
                <a:cubicBezTo>
                  <a:pt x="3238" y="833"/>
                  <a:pt x="3268" y="836"/>
                  <a:pt x="3295" y="825"/>
                </a:cubicBezTo>
                <a:cubicBezTo>
                  <a:pt x="3311" y="819"/>
                  <a:pt x="3315" y="793"/>
                  <a:pt x="3332" y="788"/>
                </a:cubicBezTo>
                <a:cubicBezTo>
                  <a:pt x="3375" y="776"/>
                  <a:pt x="3422" y="780"/>
                  <a:pt x="3467" y="776"/>
                </a:cubicBezTo>
                <a:close/>
              </a:path>
            </a:pathLst>
          </a:custGeom>
          <a:gradFill rotWithShape="0">
            <a:gsLst>
              <a:gs pos="0">
                <a:srgbClr val="31b6fd"/>
              </a:gs>
              <a:gs pos="50000">
                <a:srgbClr val="ffffff"/>
              </a:gs>
              <a:gs pos="100000">
                <a:srgbClr val="31b6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"/>
          <p:cNvSpPr/>
          <p:nvPr/>
        </p:nvSpPr>
        <p:spPr>
          <a:xfrm rot="21409200">
            <a:off x="324000" y="4076280"/>
            <a:ext cx="8820000" cy="2197080"/>
          </a:xfrm>
          <a:custGeom>
            <a:avLst/>
            <a:gdLst/>
            <a:ahLst/>
            <a:rect l="l" t="t" r="r" b="b"/>
            <a:pathLst>
              <a:path w="2547" h="714">
                <a:moveTo>
                  <a:pt x="156" y="172"/>
                </a:moveTo>
                <a:cubicBezTo>
                  <a:pt x="245" y="160"/>
                  <a:pt x="328" y="139"/>
                  <a:pt x="413" y="110"/>
                </a:cubicBezTo>
                <a:cubicBezTo>
                  <a:pt x="494" y="82"/>
                  <a:pt x="407" y="88"/>
                  <a:pt x="487" y="74"/>
                </a:cubicBezTo>
                <a:cubicBezTo>
                  <a:pt x="523" y="68"/>
                  <a:pt x="560" y="66"/>
                  <a:pt x="597" y="61"/>
                </a:cubicBezTo>
                <a:cubicBezTo>
                  <a:pt x="646" y="54"/>
                  <a:pt x="697" y="39"/>
                  <a:pt x="744" y="25"/>
                </a:cubicBezTo>
                <a:cubicBezTo>
                  <a:pt x="769" y="17"/>
                  <a:pt x="818" y="0"/>
                  <a:pt x="818" y="0"/>
                </a:cubicBezTo>
                <a:cubicBezTo>
                  <a:pt x="1089" y="11"/>
                  <a:pt x="1354" y="29"/>
                  <a:pt x="1626" y="37"/>
                </a:cubicBezTo>
                <a:cubicBezTo>
                  <a:pt x="1677" y="88"/>
                  <a:pt x="1704" y="99"/>
                  <a:pt x="1774" y="123"/>
                </a:cubicBezTo>
                <a:cubicBezTo>
                  <a:pt x="1786" y="127"/>
                  <a:pt x="1798" y="131"/>
                  <a:pt x="1810" y="135"/>
                </a:cubicBezTo>
                <a:cubicBezTo>
                  <a:pt x="1822" y="139"/>
                  <a:pt x="1847" y="147"/>
                  <a:pt x="1847" y="147"/>
                </a:cubicBezTo>
                <a:cubicBezTo>
                  <a:pt x="1964" y="226"/>
                  <a:pt x="2136" y="215"/>
                  <a:pt x="2264" y="221"/>
                </a:cubicBezTo>
                <a:cubicBezTo>
                  <a:pt x="2332" y="265"/>
                  <a:pt x="2274" y="221"/>
                  <a:pt x="2325" y="282"/>
                </a:cubicBezTo>
                <a:cubicBezTo>
                  <a:pt x="2364" y="330"/>
                  <a:pt x="2414" y="361"/>
                  <a:pt x="2472" y="380"/>
                </a:cubicBezTo>
                <a:cubicBezTo>
                  <a:pt x="2507" y="404"/>
                  <a:pt x="2547" y="442"/>
                  <a:pt x="2509" y="490"/>
                </a:cubicBezTo>
                <a:cubicBezTo>
                  <a:pt x="2503" y="497"/>
                  <a:pt x="2424" y="515"/>
                  <a:pt x="2423" y="515"/>
                </a:cubicBezTo>
                <a:cubicBezTo>
                  <a:pt x="2325" y="579"/>
                  <a:pt x="2218" y="546"/>
                  <a:pt x="2104" y="539"/>
                </a:cubicBezTo>
                <a:cubicBezTo>
                  <a:pt x="2018" y="511"/>
                  <a:pt x="1936" y="490"/>
                  <a:pt x="1847" y="478"/>
                </a:cubicBezTo>
                <a:cubicBezTo>
                  <a:pt x="1052" y="484"/>
                  <a:pt x="570" y="714"/>
                  <a:pt x="21" y="343"/>
                </a:cubicBezTo>
                <a:cubicBezTo>
                  <a:pt x="17" y="331"/>
                  <a:pt x="0" y="316"/>
                  <a:pt x="9" y="307"/>
                </a:cubicBezTo>
                <a:cubicBezTo>
                  <a:pt x="59" y="258"/>
                  <a:pt x="208" y="226"/>
                  <a:pt x="278" y="209"/>
                </a:cubicBezTo>
                <a:cubicBezTo>
                  <a:pt x="286" y="197"/>
                  <a:pt x="292" y="183"/>
                  <a:pt x="303" y="172"/>
                </a:cubicBezTo>
                <a:cubicBezTo>
                  <a:pt x="314" y="161"/>
                  <a:pt x="340" y="147"/>
                  <a:pt x="340" y="147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5" descr="лошадка"/>
          <p:cNvPicPr/>
          <p:nvPr/>
        </p:nvPicPr>
        <p:blipFill>
          <a:blip r:embed="rId1"/>
          <a:stretch/>
        </p:blipFill>
        <p:spPr>
          <a:xfrm>
            <a:off x="5724360" y="2637000"/>
            <a:ext cx="2883240" cy="288288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6"/>
          <p:cNvSpPr/>
          <p:nvPr/>
        </p:nvSpPr>
        <p:spPr>
          <a:xfrm>
            <a:off x="900000" y="333360"/>
            <a:ext cx="1440000" cy="1295280"/>
          </a:xfrm>
          <a:prstGeom prst="sun">
            <a:avLst>
              <a:gd name="adj" fmla="val 32944"/>
            </a:avLst>
          </a:prstGeom>
          <a:solidFill>
            <a:srgbClr val="f8c2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5292720" y="2413080"/>
            <a:ext cx="3816360" cy="871560"/>
          </a:xfrm>
          <a:custGeom>
            <a:avLst/>
            <a:gdLst/>
            <a:ahLst/>
            <a:rect l="l" t="t" r="r" b="b"/>
            <a:pathLst>
              <a:path w="1924" h="355">
                <a:moveTo>
                  <a:pt x="1924" y="85"/>
                </a:moveTo>
                <a:cubicBezTo>
                  <a:pt x="1887" y="81"/>
                  <a:pt x="1849" y="85"/>
                  <a:pt x="1814" y="73"/>
                </a:cubicBezTo>
                <a:cubicBezTo>
                  <a:pt x="1786" y="64"/>
                  <a:pt x="1769" y="31"/>
                  <a:pt x="1740" y="24"/>
                </a:cubicBezTo>
                <a:cubicBezTo>
                  <a:pt x="1707" y="16"/>
                  <a:pt x="1642" y="0"/>
                  <a:pt x="1642" y="0"/>
                </a:cubicBezTo>
                <a:cubicBezTo>
                  <a:pt x="1637" y="0"/>
                  <a:pt x="1293" y="7"/>
                  <a:pt x="1201" y="24"/>
                </a:cubicBezTo>
                <a:cubicBezTo>
                  <a:pt x="1100" y="43"/>
                  <a:pt x="996" y="84"/>
                  <a:pt x="895" y="110"/>
                </a:cubicBezTo>
                <a:cubicBezTo>
                  <a:pt x="778" y="140"/>
                  <a:pt x="659" y="151"/>
                  <a:pt x="539" y="159"/>
                </a:cubicBezTo>
                <a:cubicBezTo>
                  <a:pt x="475" y="180"/>
                  <a:pt x="357" y="199"/>
                  <a:pt x="306" y="233"/>
                </a:cubicBezTo>
                <a:cubicBezTo>
                  <a:pt x="233" y="282"/>
                  <a:pt x="88" y="355"/>
                  <a:pt x="0" y="355"/>
                </a:cubicBezTo>
              </a:path>
            </a:pathLst>
          </a:custGeom>
          <a:noFill/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8"/>
          <p:cNvSpPr/>
          <p:nvPr/>
        </p:nvSpPr>
        <p:spPr>
          <a:xfrm>
            <a:off x="3249720" y="3306600"/>
            <a:ext cx="2119320" cy="836640"/>
          </a:xfrm>
          <a:custGeom>
            <a:avLst/>
            <a:gdLst/>
            <a:ahLst/>
            <a:rect l="l" t="t" r="r" b="b"/>
            <a:pathLst>
              <a:path w="1335" h="527">
                <a:moveTo>
                  <a:pt x="1335" y="0"/>
                </a:moveTo>
                <a:cubicBezTo>
                  <a:pt x="1230" y="38"/>
                  <a:pt x="1158" y="122"/>
                  <a:pt x="1066" y="184"/>
                </a:cubicBezTo>
                <a:cubicBezTo>
                  <a:pt x="1051" y="194"/>
                  <a:pt x="1032" y="198"/>
                  <a:pt x="1017" y="209"/>
                </a:cubicBezTo>
                <a:cubicBezTo>
                  <a:pt x="1003" y="219"/>
                  <a:pt x="995" y="238"/>
                  <a:pt x="980" y="246"/>
                </a:cubicBezTo>
                <a:cubicBezTo>
                  <a:pt x="958" y="258"/>
                  <a:pt x="907" y="270"/>
                  <a:pt x="907" y="270"/>
                </a:cubicBezTo>
                <a:cubicBezTo>
                  <a:pt x="818" y="330"/>
                  <a:pt x="927" y="262"/>
                  <a:pt x="821" y="307"/>
                </a:cubicBezTo>
                <a:cubicBezTo>
                  <a:pt x="739" y="341"/>
                  <a:pt x="828" y="323"/>
                  <a:pt x="747" y="344"/>
                </a:cubicBezTo>
                <a:cubicBezTo>
                  <a:pt x="691" y="358"/>
                  <a:pt x="632" y="365"/>
                  <a:pt x="576" y="380"/>
                </a:cubicBezTo>
                <a:cubicBezTo>
                  <a:pt x="388" y="432"/>
                  <a:pt x="198" y="527"/>
                  <a:pt x="0" y="527"/>
                </a:cubicBezTo>
              </a:path>
            </a:pathLst>
          </a:custGeom>
          <a:noFill/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9"/>
          <p:cNvSpPr/>
          <p:nvPr/>
        </p:nvSpPr>
        <p:spPr>
          <a:xfrm>
            <a:off x="2124000" y="2997360"/>
            <a:ext cx="2428920" cy="796680"/>
          </a:xfrm>
          <a:custGeom>
            <a:avLst/>
            <a:gdLst/>
            <a:ahLst/>
            <a:rect l="l" t="t" r="r" b="b"/>
            <a:pathLst>
              <a:path w="1312" h="270">
                <a:moveTo>
                  <a:pt x="0" y="0"/>
                </a:moveTo>
                <a:cubicBezTo>
                  <a:pt x="86" y="12"/>
                  <a:pt x="173" y="42"/>
                  <a:pt x="258" y="49"/>
                </a:cubicBezTo>
                <a:cubicBezTo>
                  <a:pt x="343" y="56"/>
                  <a:pt x="429" y="57"/>
                  <a:pt x="515" y="61"/>
                </a:cubicBezTo>
                <a:cubicBezTo>
                  <a:pt x="520" y="62"/>
                  <a:pt x="614" y="82"/>
                  <a:pt x="625" y="86"/>
                </a:cubicBezTo>
                <a:cubicBezTo>
                  <a:pt x="639" y="92"/>
                  <a:pt x="648" y="105"/>
                  <a:pt x="662" y="110"/>
                </a:cubicBezTo>
                <a:cubicBezTo>
                  <a:pt x="694" y="122"/>
                  <a:pt x="727" y="127"/>
                  <a:pt x="760" y="135"/>
                </a:cubicBezTo>
                <a:cubicBezTo>
                  <a:pt x="863" y="161"/>
                  <a:pt x="964" y="196"/>
                  <a:pt x="1067" y="221"/>
                </a:cubicBezTo>
                <a:cubicBezTo>
                  <a:pt x="1152" y="242"/>
                  <a:pt x="1223" y="270"/>
                  <a:pt x="1312" y="270"/>
                </a:cubicBezTo>
              </a:path>
            </a:pathLst>
          </a:custGeom>
          <a:noFill/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"/>
          <p:cNvSpPr/>
          <p:nvPr/>
        </p:nvSpPr>
        <p:spPr>
          <a:xfrm>
            <a:off x="34920" y="2349360"/>
            <a:ext cx="915840" cy="874800"/>
          </a:xfrm>
          <a:custGeom>
            <a:avLst/>
            <a:gdLst/>
            <a:ahLst/>
            <a:rect l="l" t="t" r="r" b="b"/>
            <a:pathLst>
              <a:path w="577" h="551">
                <a:moveTo>
                  <a:pt x="0" y="515"/>
                </a:moveTo>
                <a:cubicBezTo>
                  <a:pt x="77" y="463"/>
                  <a:pt x="82" y="378"/>
                  <a:pt x="110" y="294"/>
                </a:cubicBezTo>
                <a:cubicBezTo>
                  <a:pt x="119" y="266"/>
                  <a:pt x="149" y="248"/>
                  <a:pt x="159" y="220"/>
                </a:cubicBezTo>
                <a:cubicBezTo>
                  <a:pt x="185" y="145"/>
                  <a:pt x="201" y="66"/>
                  <a:pt x="245" y="0"/>
                </a:cubicBezTo>
                <a:cubicBezTo>
                  <a:pt x="249" y="37"/>
                  <a:pt x="248" y="74"/>
                  <a:pt x="257" y="110"/>
                </a:cubicBezTo>
                <a:cubicBezTo>
                  <a:pt x="265" y="142"/>
                  <a:pt x="293" y="166"/>
                  <a:pt x="306" y="196"/>
                </a:cubicBezTo>
                <a:cubicBezTo>
                  <a:pt x="334" y="262"/>
                  <a:pt x="376" y="320"/>
                  <a:pt x="416" y="380"/>
                </a:cubicBezTo>
                <a:cubicBezTo>
                  <a:pt x="481" y="477"/>
                  <a:pt x="401" y="354"/>
                  <a:pt x="465" y="453"/>
                </a:cubicBezTo>
                <a:cubicBezTo>
                  <a:pt x="472" y="464"/>
                  <a:pt x="470" y="480"/>
                  <a:pt x="478" y="490"/>
                </a:cubicBezTo>
                <a:cubicBezTo>
                  <a:pt x="491" y="506"/>
                  <a:pt x="510" y="515"/>
                  <a:pt x="527" y="527"/>
                </a:cubicBezTo>
                <a:cubicBezTo>
                  <a:pt x="539" y="535"/>
                  <a:pt x="577" y="551"/>
                  <a:pt x="563" y="551"/>
                </a:cubicBezTo>
                <a:cubicBezTo>
                  <a:pt x="537" y="551"/>
                  <a:pt x="514" y="535"/>
                  <a:pt x="490" y="527"/>
                </a:cubicBezTo>
                <a:cubicBezTo>
                  <a:pt x="466" y="519"/>
                  <a:pt x="441" y="519"/>
                  <a:pt x="416" y="515"/>
                </a:cubicBezTo>
                <a:cubicBezTo>
                  <a:pt x="329" y="455"/>
                  <a:pt x="372" y="457"/>
                  <a:pt x="294" y="478"/>
                </a:cubicBezTo>
                <a:cubicBezTo>
                  <a:pt x="282" y="490"/>
                  <a:pt x="270" y="504"/>
                  <a:pt x="257" y="515"/>
                </a:cubicBezTo>
                <a:cubicBezTo>
                  <a:pt x="246" y="524"/>
                  <a:pt x="232" y="548"/>
                  <a:pt x="220" y="539"/>
                </a:cubicBezTo>
                <a:cubicBezTo>
                  <a:pt x="203" y="527"/>
                  <a:pt x="212" y="498"/>
                  <a:pt x="208" y="478"/>
                </a:cubicBezTo>
                <a:cubicBezTo>
                  <a:pt x="134" y="490"/>
                  <a:pt x="75" y="515"/>
                  <a:pt x="0" y="51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1"/>
          <p:cNvSpPr/>
          <p:nvPr/>
        </p:nvSpPr>
        <p:spPr>
          <a:xfrm rot="20895600">
            <a:off x="-36000" y="2133720"/>
            <a:ext cx="2304720" cy="1433520"/>
          </a:xfrm>
          <a:custGeom>
            <a:avLst/>
            <a:gdLst/>
            <a:ahLst/>
            <a:rect l="l" t="t" r="r" b="b"/>
            <a:pathLst>
              <a:path w="1372" h="903">
                <a:moveTo>
                  <a:pt x="0" y="903"/>
                </a:moveTo>
                <a:cubicBezTo>
                  <a:pt x="89" y="885"/>
                  <a:pt x="223" y="862"/>
                  <a:pt x="306" y="817"/>
                </a:cubicBezTo>
                <a:cubicBezTo>
                  <a:pt x="435" y="746"/>
                  <a:pt x="333" y="784"/>
                  <a:pt x="416" y="756"/>
                </a:cubicBezTo>
                <a:cubicBezTo>
                  <a:pt x="455" y="729"/>
                  <a:pt x="475" y="697"/>
                  <a:pt x="514" y="670"/>
                </a:cubicBezTo>
                <a:cubicBezTo>
                  <a:pt x="574" y="581"/>
                  <a:pt x="651" y="503"/>
                  <a:pt x="711" y="413"/>
                </a:cubicBezTo>
                <a:cubicBezTo>
                  <a:pt x="792" y="291"/>
                  <a:pt x="864" y="149"/>
                  <a:pt x="968" y="45"/>
                </a:cubicBezTo>
                <a:cubicBezTo>
                  <a:pt x="972" y="33"/>
                  <a:pt x="967" y="11"/>
                  <a:pt x="980" y="8"/>
                </a:cubicBezTo>
                <a:cubicBezTo>
                  <a:pt x="1013" y="0"/>
                  <a:pt x="1025" y="54"/>
                  <a:pt x="1029" y="70"/>
                </a:cubicBezTo>
                <a:cubicBezTo>
                  <a:pt x="1054" y="185"/>
                  <a:pt x="1018" y="108"/>
                  <a:pt x="1090" y="217"/>
                </a:cubicBezTo>
                <a:cubicBezTo>
                  <a:pt x="1101" y="233"/>
                  <a:pt x="1106" y="274"/>
                  <a:pt x="1115" y="290"/>
                </a:cubicBezTo>
                <a:cubicBezTo>
                  <a:pt x="1129" y="316"/>
                  <a:pt x="1147" y="339"/>
                  <a:pt x="1164" y="364"/>
                </a:cubicBezTo>
                <a:cubicBezTo>
                  <a:pt x="1172" y="376"/>
                  <a:pt x="1189" y="400"/>
                  <a:pt x="1189" y="400"/>
                </a:cubicBezTo>
                <a:cubicBezTo>
                  <a:pt x="1193" y="412"/>
                  <a:pt x="1195" y="426"/>
                  <a:pt x="1201" y="437"/>
                </a:cubicBezTo>
                <a:cubicBezTo>
                  <a:pt x="1215" y="463"/>
                  <a:pt x="1250" y="511"/>
                  <a:pt x="1250" y="511"/>
                </a:cubicBezTo>
                <a:cubicBezTo>
                  <a:pt x="1272" y="580"/>
                  <a:pt x="1312" y="642"/>
                  <a:pt x="1372" y="682"/>
                </a:cubicBezTo>
                <a:cubicBezTo>
                  <a:pt x="1310" y="704"/>
                  <a:pt x="1250" y="690"/>
                  <a:pt x="1189" y="670"/>
                </a:cubicBezTo>
                <a:cubicBezTo>
                  <a:pt x="1097" y="681"/>
                  <a:pt x="1077" y="673"/>
                  <a:pt x="1029" y="744"/>
                </a:cubicBezTo>
                <a:cubicBezTo>
                  <a:pt x="1009" y="740"/>
                  <a:pt x="987" y="740"/>
                  <a:pt x="968" y="731"/>
                </a:cubicBezTo>
                <a:cubicBezTo>
                  <a:pt x="953" y="723"/>
                  <a:pt x="944" y="706"/>
                  <a:pt x="931" y="695"/>
                </a:cubicBezTo>
                <a:cubicBezTo>
                  <a:pt x="902" y="671"/>
                  <a:pt x="879" y="663"/>
                  <a:pt x="845" y="646"/>
                </a:cubicBezTo>
                <a:cubicBezTo>
                  <a:pt x="833" y="654"/>
                  <a:pt x="823" y="673"/>
                  <a:pt x="809" y="670"/>
                </a:cubicBezTo>
                <a:cubicBezTo>
                  <a:pt x="750" y="660"/>
                  <a:pt x="787" y="624"/>
                  <a:pt x="760" y="597"/>
                </a:cubicBezTo>
                <a:cubicBezTo>
                  <a:pt x="751" y="588"/>
                  <a:pt x="735" y="588"/>
                  <a:pt x="723" y="584"/>
                </a:cubicBezTo>
                <a:cubicBezTo>
                  <a:pt x="693" y="677"/>
                  <a:pt x="734" y="563"/>
                  <a:pt x="686" y="658"/>
                </a:cubicBezTo>
                <a:cubicBezTo>
                  <a:pt x="680" y="670"/>
                  <a:pt x="685" y="688"/>
                  <a:pt x="674" y="695"/>
                </a:cubicBezTo>
                <a:cubicBezTo>
                  <a:pt x="657" y="707"/>
                  <a:pt x="634" y="704"/>
                  <a:pt x="613" y="707"/>
                </a:cubicBezTo>
                <a:cubicBezTo>
                  <a:pt x="514" y="721"/>
                  <a:pt x="527" y="719"/>
                  <a:pt x="453" y="719"/>
                </a:cubicBezTo>
              </a:path>
            </a:pathLst>
          </a:custGeom>
          <a:solidFill>
            <a:srgbClr val="ffffff"/>
          </a:soli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12"/>
          <p:cNvSpPr/>
          <p:nvPr/>
        </p:nvSpPr>
        <p:spPr>
          <a:xfrm>
            <a:off x="7308720" y="1197000"/>
            <a:ext cx="1322640" cy="1616040"/>
          </a:xfrm>
          <a:custGeom>
            <a:avLst/>
            <a:gdLst/>
            <a:ahLst/>
            <a:rect l="l" t="t" r="r" b="b"/>
            <a:pathLst>
              <a:path w="833" h="1189">
                <a:moveTo>
                  <a:pt x="466" y="23"/>
                </a:moveTo>
                <a:cubicBezTo>
                  <a:pt x="432" y="153"/>
                  <a:pt x="478" y="0"/>
                  <a:pt x="429" y="109"/>
                </a:cubicBezTo>
                <a:cubicBezTo>
                  <a:pt x="386" y="206"/>
                  <a:pt x="412" y="173"/>
                  <a:pt x="343" y="256"/>
                </a:cubicBezTo>
                <a:cubicBezTo>
                  <a:pt x="334" y="267"/>
                  <a:pt x="329" y="281"/>
                  <a:pt x="319" y="292"/>
                </a:cubicBezTo>
                <a:cubicBezTo>
                  <a:pt x="296" y="318"/>
                  <a:pt x="245" y="366"/>
                  <a:pt x="245" y="366"/>
                </a:cubicBezTo>
                <a:cubicBezTo>
                  <a:pt x="288" y="409"/>
                  <a:pt x="309" y="413"/>
                  <a:pt x="368" y="427"/>
                </a:cubicBezTo>
                <a:cubicBezTo>
                  <a:pt x="313" y="445"/>
                  <a:pt x="270" y="492"/>
                  <a:pt x="221" y="525"/>
                </a:cubicBezTo>
                <a:cubicBezTo>
                  <a:pt x="209" y="533"/>
                  <a:pt x="184" y="550"/>
                  <a:pt x="184" y="550"/>
                </a:cubicBezTo>
                <a:cubicBezTo>
                  <a:pt x="180" y="566"/>
                  <a:pt x="170" y="582"/>
                  <a:pt x="172" y="599"/>
                </a:cubicBezTo>
                <a:cubicBezTo>
                  <a:pt x="182" y="669"/>
                  <a:pt x="298" y="695"/>
                  <a:pt x="355" y="709"/>
                </a:cubicBezTo>
                <a:cubicBezTo>
                  <a:pt x="307" y="741"/>
                  <a:pt x="264" y="780"/>
                  <a:pt x="208" y="795"/>
                </a:cubicBezTo>
                <a:cubicBezTo>
                  <a:pt x="176" y="804"/>
                  <a:pt x="110" y="819"/>
                  <a:pt x="110" y="819"/>
                </a:cubicBezTo>
                <a:cubicBezTo>
                  <a:pt x="106" y="831"/>
                  <a:pt x="92" y="844"/>
                  <a:pt x="98" y="856"/>
                </a:cubicBezTo>
                <a:cubicBezTo>
                  <a:pt x="104" y="868"/>
                  <a:pt x="123" y="862"/>
                  <a:pt x="135" y="868"/>
                </a:cubicBezTo>
                <a:cubicBezTo>
                  <a:pt x="164" y="882"/>
                  <a:pt x="177" y="921"/>
                  <a:pt x="208" y="930"/>
                </a:cubicBezTo>
                <a:cubicBezTo>
                  <a:pt x="247" y="942"/>
                  <a:pt x="290" y="938"/>
                  <a:pt x="331" y="942"/>
                </a:cubicBezTo>
                <a:cubicBezTo>
                  <a:pt x="234" y="1005"/>
                  <a:pt x="113" y="1053"/>
                  <a:pt x="0" y="1077"/>
                </a:cubicBezTo>
                <a:cubicBezTo>
                  <a:pt x="172" y="1189"/>
                  <a:pt x="344" y="1073"/>
                  <a:pt x="515" y="1052"/>
                </a:cubicBezTo>
                <a:cubicBezTo>
                  <a:pt x="564" y="1046"/>
                  <a:pt x="613" y="1046"/>
                  <a:pt x="662" y="1040"/>
                </a:cubicBezTo>
                <a:cubicBezTo>
                  <a:pt x="719" y="1033"/>
                  <a:pt x="833" y="1015"/>
                  <a:pt x="833" y="1015"/>
                </a:cubicBezTo>
                <a:cubicBezTo>
                  <a:pt x="785" y="999"/>
                  <a:pt x="716" y="993"/>
                  <a:pt x="674" y="966"/>
                </a:cubicBezTo>
                <a:cubicBezTo>
                  <a:pt x="626" y="935"/>
                  <a:pt x="651" y="947"/>
                  <a:pt x="600" y="930"/>
                </a:cubicBezTo>
                <a:cubicBezTo>
                  <a:pt x="588" y="922"/>
                  <a:pt x="564" y="920"/>
                  <a:pt x="564" y="905"/>
                </a:cubicBezTo>
                <a:cubicBezTo>
                  <a:pt x="564" y="892"/>
                  <a:pt x="587" y="895"/>
                  <a:pt x="600" y="893"/>
                </a:cubicBezTo>
                <a:cubicBezTo>
                  <a:pt x="653" y="886"/>
                  <a:pt x="707" y="885"/>
                  <a:pt x="760" y="881"/>
                </a:cubicBezTo>
                <a:cubicBezTo>
                  <a:pt x="695" y="858"/>
                  <a:pt x="672" y="805"/>
                  <a:pt x="625" y="758"/>
                </a:cubicBezTo>
                <a:cubicBezTo>
                  <a:pt x="621" y="746"/>
                  <a:pt x="620" y="732"/>
                  <a:pt x="613" y="721"/>
                </a:cubicBezTo>
                <a:cubicBezTo>
                  <a:pt x="577" y="668"/>
                  <a:pt x="522" y="677"/>
                  <a:pt x="662" y="697"/>
                </a:cubicBezTo>
                <a:cubicBezTo>
                  <a:pt x="686" y="705"/>
                  <a:pt x="711" y="713"/>
                  <a:pt x="735" y="721"/>
                </a:cubicBezTo>
                <a:cubicBezTo>
                  <a:pt x="747" y="725"/>
                  <a:pt x="699" y="709"/>
                  <a:pt x="699" y="709"/>
                </a:cubicBezTo>
                <a:cubicBezTo>
                  <a:pt x="736" y="705"/>
                  <a:pt x="790" y="729"/>
                  <a:pt x="809" y="697"/>
                </a:cubicBezTo>
                <a:cubicBezTo>
                  <a:pt x="824" y="672"/>
                  <a:pt x="760" y="664"/>
                  <a:pt x="735" y="648"/>
                </a:cubicBezTo>
                <a:cubicBezTo>
                  <a:pt x="706" y="629"/>
                  <a:pt x="686" y="599"/>
                  <a:pt x="662" y="574"/>
                </a:cubicBezTo>
                <a:cubicBezTo>
                  <a:pt x="589" y="500"/>
                  <a:pt x="630" y="524"/>
                  <a:pt x="600" y="464"/>
                </a:cubicBezTo>
                <a:cubicBezTo>
                  <a:pt x="593" y="451"/>
                  <a:pt x="564" y="435"/>
                  <a:pt x="576" y="427"/>
                </a:cubicBezTo>
                <a:cubicBezTo>
                  <a:pt x="587" y="419"/>
                  <a:pt x="657" y="446"/>
                  <a:pt x="674" y="452"/>
                </a:cubicBezTo>
                <a:cubicBezTo>
                  <a:pt x="662" y="416"/>
                  <a:pt x="646" y="318"/>
                  <a:pt x="613" y="292"/>
                </a:cubicBezTo>
                <a:cubicBezTo>
                  <a:pt x="603" y="284"/>
                  <a:pt x="588" y="284"/>
                  <a:pt x="576" y="280"/>
                </a:cubicBezTo>
                <a:cubicBezTo>
                  <a:pt x="537" y="161"/>
                  <a:pt x="602" y="339"/>
                  <a:pt x="527" y="207"/>
                </a:cubicBezTo>
                <a:cubicBezTo>
                  <a:pt x="514" y="184"/>
                  <a:pt x="510" y="158"/>
                  <a:pt x="502" y="133"/>
                </a:cubicBezTo>
                <a:cubicBezTo>
                  <a:pt x="497" y="119"/>
                  <a:pt x="483" y="110"/>
                  <a:pt x="478" y="96"/>
                </a:cubicBezTo>
                <a:cubicBezTo>
                  <a:pt x="470" y="73"/>
                  <a:pt x="470" y="47"/>
                  <a:pt x="466" y="23"/>
                </a:cubicBezTo>
                <a:close/>
              </a:path>
            </a:pathLst>
          </a:custGeom>
          <a:solidFill>
            <a:srgbClr val="56a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13"/>
          <p:cNvSpPr/>
          <p:nvPr/>
        </p:nvSpPr>
        <p:spPr>
          <a:xfrm>
            <a:off x="6659640" y="1700280"/>
            <a:ext cx="1106280" cy="1039680"/>
          </a:xfrm>
          <a:custGeom>
            <a:avLst/>
            <a:gdLst/>
            <a:ahLst/>
            <a:rect l="l" t="t" r="r" b="b"/>
            <a:pathLst>
              <a:path w="833" h="1189">
                <a:moveTo>
                  <a:pt x="466" y="23"/>
                </a:moveTo>
                <a:cubicBezTo>
                  <a:pt x="432" y="153"/>
                  <a:pt x="478" y="0"/>
                  <a:pt x="429" y="109"/>
                </a:cubicBezTo>
                <a:cubicBezTo>
                  <a:pt x="386" y="206"/>
                  <a:pt x="412" y="173"/>
                  <a:pt x="343" y="256"/>
                </a:cubicBezTo>
                <a:cubicBezTo>
                  <a:pt x="334" y="267"/>
                  <a:pt x="329" y="281"/>
                  <a:pt x="319" y="292"/>
                </a:cubicBezTo>
                <a:cubicBezTo>
                  <a:pt x="296" y="318"/>
                  <a:pt x="245" y="366"/>
                  <a:pt x="245" y="366"/>
                </a:cubicBezTo>
                <a:cubicBezTo>
                  <a:pt x="288" y="409"/>
                  <a:pt x="309" y="413"/>
                  <a:pt x="368" y="427"/>
                </a:cubicBezTo>
                <a:cubicBezTo>
                  <a:pt x="313" y="445"/>
                  <a:pt x="270" y="492"/>
                  <a:pt x="221" y="525"/>
                </a:cubicBezTo>
                <a:cubicBezTo>
                  <a:pt x="209" y="533"/>
                  <a:pt x="184" y="550"/>
                  <a:pt x="184" y="550"/>
                </a:cubicBezTo>
                <a:cubicBezTo>
                  <a:pt x="180" y="566"/>
                  <a:pt x="170" y="582"/>
                  <a:pt x="172" y="599"/>
                </a:cubicBezTo>
                <a:cubicBezTo>
                  <a:pt x="182" y="669"/>
                  <a:pt x="298" y="695"/>
                  <a:pt x="355" y="709"/>
                </a:cubicBezTo>
                <a:cubicBezTo>
                  <a:pt x="307" y="741"/>
                  <a:pt x="264" y="780"/>
                  <a:pt x="208" y="795"/>
                </a:cubicBezTo>
                <a:cubicBezTo>
                  <a:pt x="176" y="804"/>
                  <a:pt x="110" y="819"/>
                  <a:pt x="110" y="819"/>
                </a:cubicBezTo>
                <a:cubicBezTo>
                  <a:pt x="106" y="831"/>
                  <a:pt x="92" y="844"/>
                  <a:pt x="98" y="856"/>
                </a:cubicBezTo>
                <a:cubicBezTo>
                  <a:pt x="104" y="868"/>
                  <a:pt x="123" y="862"/>
                  <a:pt x="135" y="868"/>
                </a:cubicBezTo>
                <a:cubicBezTo>
                  <a:pt x="164" y="882"/>
                  <a:pt x="177" y="921"/>
                  <a:pt x="208" y="930"/>
                </a:cubicBezTo>
                <a:cubicBezTo>
                  <a:pt x="247" y="942"/>
                  <a:pt x="290" y="938"/>
                  <a:pt x="331" y="942"/>
                </a:cubicBezTo>
                <a:cubicBezTo>
                  <a:pt x="234" y="1005"/>
                  <a:pt x="113" y="1053"/>
                  <a:pt x="0" y="1077"/>
                </a:cubicBezTo>
                <a:cubicBezTo>
                  <a:pt x="172" y="1189"/>
                  <a:pt x="344" y="1073"/>
                  <a:pt x="515" y="1052"/>
                </a:cubicBezTo>
                <a:cubicBezTo>
                  <a:pt x="564" y="1046"/>
                  <a:pt x="613" y="1046"/>
                  <a:pt x="662" y="1040"/>
                </a:cubicBezTo>
                <a:cubicBezTo>
                  <a:pt x="719" y="1033"/>
                  <a:pt x="833" y="1015"/>
                  <a:pt x="833" y="1015"/>
                </a:cubicBezTo>
                <a:cubicBezTo>
                  <a:pt x="785" y="999"/>
                  <a:pt x="716" y="993"/>
                  <a:pt x="674" y="966"/>
                </a:cubicBezTo>
                <a:cubicBezTo>
                  <a:pt x="626" y="935"/>
                  <a:pt x="651" y="947"/>
                  <a:pt x="600" y="930"/>
                </a:cubicBezTo>
                <a:cubicBezTo>
                  <a:pt x="588" y="922"/>
                  <a:pt x="564" y="920"/>
                  <a:pt x="564" y="905"/>
                </a:cubicBezTo>
                <a:cubicBezTo>
                  <a:pt x="564" y="892"/>
                  <a:pt x="587" y="895"/>
                  <a:pt x="600" y="893"/>
                </a:cubicBezTo>
                <a:cubicBezTo>
                  <a:pt x="653" y="886"/>
                  <a:pt x="707" y="885"/>
                  <a:pt x="760" y="881"/>
                </a:cubicBezTo>
                <a:cubicBezTo>
                  <a:pt x="695" y="858"/>
                  <a:pt x="672" y="805"/>
                  <a:pt x="625" y="758"/>
                </a:cubicBezTo>
                <a:cubicBezTo>
                  <a:pt x="621" y="746"/>
                  <a:pt x="620" y="732"/>
                  <a:pt x="613" y="721"/>
                </a:cubicBezTo>
                <a:cubicBezTo>
                  <a:pt x="577" y="668"/>
                  <a:pt x="522" y="677"/>
                  <a:pt x="662" y="697"/>
                </a:cubicBezTo>
                <a:cubicBezTo>
                  <a:pt x="686" y="705"/>
                  <a:pt x="711" y="713"/>
                  <a:pt x="735" y="721"/>
                </a:cubicBezTo>
                <a:cubicBezTo>
                  <a:pt x="747" y="725"/>
                  <a:pt x="699" y="709"/>
                  <a:pt x="699" y="709"/>
                </a:cubicBezTo>
                <a:cubicBezTo>
                  <a:pt x="736" y="705"/>
                  <a:pt x="790" y="729"/>
                  <a:pt x="809" y="697"/>
                </a:cubicBezTo>
                <a:cubicBezTo>
                  <a:pt x="824" y="672"/>
                  <a:pt x="760" y="664"/>
                  <a:pt x="735" y="648"/>
                </a:cubicBezTo>
                <a:cubicBezTo>
                  <a:pt x="706" y="629"/>
                  <a:pt x="686" y="599"/>
                  <a:pt x="662" y="574"/>
                </a:cubicBezTo>
                <a:cubicBezTo>
                  <a:pt x="589" y="500"/>
                  <a:pt x="630" y="524"/>
                  <a:pt x="600" y="464"/>
                </a:cubicBezTo>
                <a:cubicBezTo>
                  <a:pt x="593" y="451"/>
                  <a:pt x="564" y="435"/>
                  <a:pt x="576" y="427"/>
                </a:cubicBezTo>
                <a:cubicBezTo>
                  <a:pt x="587" y="419"/>
                  <a:pt x="657" y="446"/>
                  <a:pt x="674" y="452"/>
                </a:cubicBezTo>
                <a:cubicBezTo>
                  <a:pt x="662" y="416"/>
                  <a:pt x="646" y="318"/>
                  <a:pt x="613" y="292"/>
                </a:cubicBezTo>
                <a:cubicBezTo>
                  <a:pt x="603" y="284"/>
                  <a:pt x="588" y="284"/>
                  <a:pt x="576" y="280"/>
                </a:cubicBezTo>
                <a:cubicBezTo>
                  <a:pt x="537" y="161"/>
                  <a:pt x="602" y="339"/>
                  <a:pt x="527" y="207"/>
                </a:cubicBezTo>
                <a:cubicBezTo>
                  <a:pt x="514" y="184"/>
                  <a:pt x="510" y="158"/>
                  <a:pt x="502" y="133"/>
                </a:cubicBezTo>
                <a:cubicBezTo>
                  <a:pt x="497" y="119"/>
                  <a:pt x="483" y="110"/>
                  <a:pt x="478" y="96"/>
                </a:cubicBezTo>
                <a:cubicBezTo>
                  <a:pt x="470" y="73"/>
                  <a:pt x="470" y="47"/>
                  <a:pt x="466" y="23"/>
                </a:cubicBezTo>
                <a:close/>
              </a:path>
            </a:pathLst>
          </a:custGeom>
          <a:solidFill>
            <a:srgbClr val="56a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4"/>
          <p:cNvSpPr/>
          <p:nvPr/>
        </p:nvSpPr>
        <p:spPr>
          <a:xfrm rot="20656200">
            <a:off x="3634920" y="2420640"/>
            <a:ext cx="1322640" cy="1616040"/>
          </a:xfrm>
          <a:custGeom>
            <a:avLst/>
            <a:gdLst/>
            <a:ahLst/>
            <a:rect l="l" t="t" r="r" b="b"/>
            <a:pathLst>
              <a:path w="833" h="1189">
                <a:moveTo>
                  <a:pt x="466" y="23"/>
                </a:moveTo>
                <a:cubicBezTo>
                  <a:pt x="432" y="153"/>
                  <a:pt x="478" y="0"/>
                  <a:pt x="429" y="109"/>
                </a:cubicBezTo>
                <a:cubicBezTo>
                  <a:pt x="386" y="206"/>
                  <a:pt x="412" y="173"/>
                  <a:pt x="343" y="256"/>
                </a:cubicBezTo>
                <a:cubicBezTo>
                  <a:pt x="334" y="267"/>
                  <a:pt x="329" y="281"/>
                  <a:pt x="319" y="292"/>
                </a:cubicBezTo>
                <a:cubicBezTo>
                  <a:pt x="296" y="318"/>
                  <a:pt x="245" y="366"/>
                  <a:pt x="245" y="366"/>
                </a:cubicBezTo>
                <a:cubicBezTo>
                  <a:pt x="288" y="409"/>
                  <a:pt x="309" y="413"/>
                  <a:pt x="368" y="427"/>
                </a:cubicBezTo>
                <a:cubicBezTo>
                  <a:pt x="313" y="445"/>
                  <a:pt x="270" y="492"/>
                  <a:pt x="221" y="525"/>
                </a:cubicBezTo>
                <a:cubicBezTo>
                  <a:pt x="209" y="533"/>
                  <a:pt x="184" y="550"/>
                  <a:pt x="184" y="550"/>
                </a:cubicBezTo>
                <a:cubicBezTo>
                  <a:pt x="180" y="566"/>
                  <a:pt x="170" y="582"/>
                  <a:pt x="172" y="599"/>
                </a:cubicBezTo>
                <a:cubicBezTo>
                  <a:pt x="182" y="669"/>
                  <a:pt x="298" y="695"/>
                  <a:pt x="355" y="709"/>
                </a:cubicBezTo>
                <a:cubicBezTo>
                  <a:pt x="307" y="741"/>
                  <a:pt x="264" y="780"/>
                  <a:pt x="208" y="795"/>
                </a:cubicBezTo>
                <a:cubicBezTo>
                  <a:pt x="176" y="804"/>
                  <a:pt x="110" y="819"/>
                  <a:pt x="110" y="819"/>
                </a:cubicBezTo>
                <a:cubicBezTo>
                  <a:pt x="106" y="831"/>
                  <a:pt x="92" y="844"/>
                  <a:pt x="98" y="856"/>
                </a:cubicBezTo>
                <a:cubicBezTo>
                  <a:pt x="104" y="868"/>
                  <a:pt x="123" y="862"/>
                  <a:pt x="135" y="868"/>
                </a:cubicBezTo>
                <a:cubicBezTo>
                  <a:pt x="164" y="882"/>
                  <a:pt x="177" y="921"/>
                  <a:pt x="208" y="930"/>
                </a:cubicBezTo>
                <a:cubicBezTo>
                  <a:pt x="247" y="942"/>
                  <a:pt x="290" y="938"/>
                  <a:pt x="331" y="942"/>
                </a:cubicBezTo>
                <a:cubicBezTo>
                  <a:pt x="234" y="1005"/>
                  <a:pt x="113" y="1053"/>
                  <a:pt x="0" y="1077"/>
                </a:cubicBezTo>
                <a:cubicBezTo>
                  <a:pt x="172" y="1189"/>
                  <a:pt x="344" y="1073"/>
                  <a:pt x="515" y="1052"/>
                </a:cubicBezTo>
                <a:cubicBezTo>
                  <a:pt x="564" y="1046"/>
                  <a:pt x="613" y="1046"/>
                  <a:pt x="662" y="1040"/>
                </a:cubicBezTo>
                <a:cubicBezTo>
                  <a:pt x="719" y="1033"/>
                  <a:pt x="833" y="1015"/>
                  <a:pt x="833" y="1015"/>
                </a:cubicBezTo>
                <a:cubicBezTo>
                  <a:pt x="785" y="999"/>
                  <a:pt x="716" y="993"/>
                  <a:pt x="674" y="966"/>
                </a:cubicBezTo>
                <a:cubicBezTo>
                  <a:pt x="626" y="935"/>
                  <a:pt x="651" y="947"/>
                  <a:pt x="600" y="930"/>
                </a:cubicBezTo>
                <a:cubicBezTo>
                  <a:pt x="588" y="922"/>
                  <a:pt x="564" y="920"/>
                  <a:pt x="564" y="905"/>
                </a:cubicBezTo>
                <a:cubicBezTo>
                  <a:pt x="564" y="892"/>
                  <a:pt x="587" y="895"/>
                  <a:pt x="600" y="893"/>
                </a:cubicBezTo>
                <a:cubicBezTo>
                  <a:pt x="653" y="886"/>
                  <a:pt x="707" y="885"/>
                  <a:pt x="760" y="881"/>
                </a:cubicBezTo>
                <a:cubicBezTo>
                  <a:pt x="695" y="858"/>
                  <a:pt x="672" y="805"/>
                  <a:pt x="625" y="758"/>
                </a:cubicBezTo>
                <a:cubicBezTo>
                  <a:pt x="621" y="746"/>
                  <a:pt x="620" y="732"/>
                  <a:pt x="613" y="721"/>
                </a:cubicBezTo>
                <a:cubicBezTo>
                  <a:pt x="577" y="668"/>
                  <a:pt x="522" y="677"/>
                  <a:pt x="662" y="697"/>
                </a:cubicBezTo>
                <a:cubicBezTo>
                  <a:pt x="686" y="705"/>
                  <a:pt x="711" y="713"/>
                  <a:pt x="735" y="721"/>
                </a:cubicBezTo>
                <a:cubicBezTo>
                  <a:pt x="747" y="725"/>
                  <a:pt x="699" y="709"/>
                  <a:pt x="699" y="709"/>
                </a:cubicBezTo>
                <a:cubicBezTo>
                  <a:pt x="736" y="705"/>
                  <a:pt x="790" y="729"/>
                  <a:pt x="809" y="697"/>
                </a:cubicBezTo>
                <a:cubicBezTo>
                  <a:pt x="824" y="672"/>
                  <a:pt x="760" y="664"/>
                  <a:pt x="735" y="648"/>
                </a:cubicBezTo>
                <a:cubicBezTo>
                  <a:pt x="706" y="629"/>
                  <a:pt x="686" y="599"/>
                  <a:pt x="662" y="574"/>
                </a:cubicBezTo>
                <a:cubicBezTo>
                  <a:pt x="589" y="500"/>
                  <a:pt x="630" y="524"/>
                  <a:pt x="600" y="464"/>
                </a:cubicBezTo>
                <a:cubicBezTo>
                  <a:pt x="593" y="451"/>
                  <a:pt x="564" y="435"/>
                  <a:pt x="576" y="427"/>
                </a:cubicBezTo>
                <a:cubicBezTo>
                  <a:pt x="587" y="419"/>
                  <a:pt x="657" y="446"/>
                  <a:pt x="674" y="452"/>
                </a:cubicBezTo>
                <a:cubicBezTo>
                  <a:pt x="662" y="416"/>
                  <a:pt x="646" y="318"/>
                  <a:pt x="613" y="292"/>
                </a:cubicBezTo>
                <a:cubicBezTo>
                  <a:pt x="603" y="284"/>
                  <a:pt x="588" y="284"/>
                  <a:pt x="576" y="280"/>
                </a:cubicBezTo>
                <a:cubicBezTo>
                  <a:pt x="537" y="161"/>
                  <a:pt x="602" y="339"/>
                  <a:pt x="527" y="207"/>
                </a:cubicBezTo>
                <a:cubicBezTo>
                  <a:pt x="514" y="184"/>
                  <a:pt x="510" y="158"/>
                  <a:pt x="502" y="133"/>
                </a:cubicBezTo>
                <a:cubicBezTo>
                  <a:pt x="497" y="119"/>
                  <a:pt x="483" y="110"/>
                  <a:pt x="478" y="96"/>
                </a:cubicBezTo>
                <a:cubicBezTo>
                  <a:pt x="470" y="73"/>
                  <a:pt x="470" y="47"/>
                  <a:pt x="466" y="23"/>
                </a:cubicBezTo>
                <a:close/>
              </a:path>
            </a:pathLst>
          </a:custGeom>
          <a:solidFill>
            <a:srgbClr val="56a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5"/>
          <p:cNvSpPr/>
          <p:nvPr/>
        </p:nvSpPr>
        <p:spPr>
          <a:xfrm>
            <a:off x="2700360" y="981000"/>
            <a:ext cx="1224000" cy="358920"/>
          </a:xfrm>
          <a:prstGeom prst="cloudCallout">
            <a:avLst>
              <a:gd name="adj1" fmla="val 35990"/>
              <a:gd name="adj2" fmla="val 44689"/>
            </a:avLst>
          </a:prstGeom>
          <a:solidFill>
            <a:srgbClr val="31b6fd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6"/>
          <p:cNvSpPr/>
          <p:nvPr/>
        </p:nvSpPr>
        <p:spPr>
          <a:xfrm>
            <a:off x="3995640" y="404640"/>
            <a:ext cx="1584360" cy="358920"/>
          </a:xfrm>
          <a:prstGeom prst="cloudCallout">
            <a:avLst>
              <a:gd name="adj1" fmla="val -8217"/>
              <a:gd name="adj2" fmla="val 15486"/>
            </a:avLst>
          </a:prstGeom>
          <a:solidFill>
            <a:srgbClr val="31b6fd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7"/>
          <p:cNvSpPr/>
          <p:nvPr/>
        </p:nvSpPr>
        <p:spPr>
          <a:xfrm>
            <a:off x="6300720" y="692280"/>
            <a:ext cx="720720" cy="358560"/>
          </a:xfrm>
          <a:prstGeom prst="cloudCallout">
            <a:avLst>
              <a:gd name="adj1" fmla="val 0"/>
              <a:gd name="adj2" fmla="val 17254"/>
            </a:avLst>
          </a:prstGeom>
          <a:solidFill>
            <a:srgbClr val="31b6fd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9"/>
          <p:cNvSpPr/>
          <p:nvPr/>
        </p:nvSpPr>
        <p:spPr>
          <a:xfrm>
            <a:off x="3059280" y="2271600"/>
            <a:ext cx="2809800" cy="1876680"/>
          </a:xfrm>
          <a:prstGeom prst="wedgeEllipseCallout">
            <a:avLst>
              <a:gd name="adj1" fmla="val 53726"/>
              <a:gd name="adj2" fmla="val 5147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почему я проваливаюсь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ра садиться на диет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1187280" y="623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ответит зайчик лошадк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1"/>
          <p:cNvSpPr/>
          <p:nvPr/>
        </p:nvSpPr>
        <p:spPr>
          <a:xfrm>
            <a:off x="539640" y="6095880"/>
            <a:ext cx="5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2" descr="зайчик"/>
          <p:cNvPicPr/>
          <p:nvPr/>
        </p:nvPicPr>
        <p:blipFill>
          <a:blip r:embed="rId2"/>
          <a:stretch/>
        </p:blipFill>
        <p:spPr>
          <a:xfrm>
            <a:off x="0" y="2637000"/>
            <a:ext cx="28828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L 0.14549 -0.00024 E">
                                      <p:cBhvr>
                                        <p:cTn id="13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27 -0.04762 C 0.0842 -0.05155 0.07674 -0.05247 0.06649 -0.05016 C 0.0434 -0.0275 0.06615 -0.05131 0.05191 -0.03351 C 0.05035 -0.03167 0.04896 -0.02912 0.04705 -0.02866 C 0.0375 -0.02658 0.02761 -0.02704 0.01788 -0.02635 C 0.01267 -0.02126 0.00886 -0.01433 0.00486 -0.00716 C 0.00035 0.00093 0.00382 -3.35183E-006 -8.33333E-007 -3.35183E-006 E">
                                      <p:cBhvr>
                                        <p:cTn id="16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ила упругости, действующая на опору или подвес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ложен к опоре или подвесу.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пр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еделяется по формуле  Р =mg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333000"/>
            <a:ext cx="8510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Candara"/>
              </a:rPr>
              <a:t>Вес тела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4422600" y="2195640"/>
            <a:ext cx="3264120" cy="1719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Candara"/>
              </a:rPr>
              <a:t>Давление твердых тел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50920" y="1557360"/>
            <a:ext cx="374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следуйте глубину погружения доски с гвоздями в песок,  в зависимости от массы груза в двух случа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971640" y="422100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результатов опытов приводит к следующим заключения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лубина погружения зависит от величины действующей силы- чем больше сила, тем погружение больше и от площади оп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ndara"/>
              </a:rPr>
              <a:t>Чем меньше площадь, тем большая сила действует на единицу площади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1332000" y="3429000"/>
            <a:ext cx="2663640" cy="1871640"/>
            <a:chOff x="1332000" y="3429000"/>
            <a:chExt cx="2663640" cy="1871640"/>
          </a:xfrm>
        </p:grpSpPr>
        <p:sp>
          <p:nvSpPr>
            <p:cNvPr id="369" name="Rectangle 4"/>
            <p:cNvSpPr/>
            <p:nvPr/>
          </p:nvSpPr>
          <p:spPr>
            <a:xfrm>
              <a:off x="1332000" y="3429000"/>
              <a:ext cx="2663640" cy="1871640"/>
            </a:xfrm>
            <a:prstGeom prst="rect">
              <a:avLst/>
            </a:prstGeom>
            <a:gradFill rotWithShape="0">
              <a:gsLst>
                <a:gs pos="0">
                  <a:srgbClr val="9becff"/>
                </a:gs>
                <a:gs pos="50000">
                  <a:srgbClr val="e1f9ff"/>
                </a:gs>
                <a:gs pos="100000">
                  <a:srgbClr val="9bec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5"/>
            <p:cNvSpPr/>
            <p:nvPr/>
          </p:nvSpPr>
          <p:spPr>
            <a:xfrm>
              <a:off x="1332000" y="4221000"/>
              <a:ext cx="2663640" cy="1079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6"/>
          <p:cNvGrpSpPr/>
          <p:nvPr/>
        </p:nvGrpSpPr>
        <p:grpSpPr>
          <a:xfrm>
            <a:off x="5292720" y="3429000"/>
            <a:ext cx="2664000" cy="1871640"/>
            <a:chOff x="5292720" y="3429000"/>
            <a:chExt cx="2664000" cy="1871640"/>
          </a:xfrm>
        </p:grpSpPr>
        <p:sp>
          <p:nvSpPr>
            <p:cNvPr id="372" name="Rectangle 7"/>
            <p:cNvSpPr/>
            <p:nvPr/>
          </p:nvSpPr>
          <p:spPr>
            <a:xfrm>
              <a:off x="5292720" y="3429000"/>
              <a:ext cx="2664000" cy="1871640"/>
            </a:xfrm>
            <a:prstGeom prst="rect">
              <a:avLst/>
            </a:prstGeom>
            <a:gradFill rotWithShape="0">
              <a:gsLst>
                <a:gs pos="0">
                  <a:srgbClr val="9becff"/>
                </a:gs>
                <a:gs pos="50000">
                  <a:srgbClr val="e1f9ff"/>
                </a:gs>
                <a:gs pos="100000">
                  <a:srgbClr val="9bec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8"/>
            <p:cNvSpPr/>
            <p:nvPr/>
          </p:nvSpPr>
          <p:spPr>
            <a:xfrm>
              <a:off x="5292720" y="4221000"/>
              <a:ext cx="2664000" cy="1079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9"/>
          <p:cNvGrpSpPr/>
          <p:nvPr/>
        </p:nvGrpSpPr>
        <p:grpSpPr>
          <a:xfrm>
            <a:off x="1476360" y="2708280"/>
            <a:ext cx="2445840" cy="2231640"/>
            <a:chOff x="1476360" y="2708280"/>
            <a:chExt cx="2445840" cy="2231640"/>
          </a:xfrm>
        </p:grpSpPr>
        <p:sp>
          <p:nvSpPr>
            <p:cNvPr id="375" name="Rectangle 10"/>
            <p:cNvSpPr/>
            <p:nvPr/>
          </p:nvSpPr>
          <p:spPr>
            <a:xfrm>
              <a:off x="2365560" y="3174840"/>
              <a:ext cx="519840" cy="649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989898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11"/>
            <p:cNvGrpSpPr/>
            <p:nvPr/>
          </p:nvGrpSpPr>
          <p:grpSpPr>
            <a:xfrm>
              <a:off x="1623240" y="2708280"/>
              <a:ext cx="517680" cy="2231640"/>
              <a:chOff x="1623240" y="2708280"/>
              <a:chExt cx="517680" cy="2231640"/>
            </a:xfrm>
          </p:grpSpPr>
          <p:sp>
            <p:nvSpPr>
              <p:cNvPr id="377" name="AutoShape 12"/>
              <p:cNvSpPr/>
              <p:nvPr/>
            </p:nvSpPr>
            <p:spPr>
              <a:xfrm rot="5400000">
                <a:off x="837360" y="3821040"/>
                <a:ext cx="2126520" cy="110880"/>
              </a:xfrm>
              <a:custGeom>
                <a:avLst/>
                <a:gdLst>
                  <a:gd name="textAreaLeft" fmla="*/ 0 w 2126520"/>
                  <a:gd name="textAreaRight" fmla="*/ 2126520 w 21265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ededed"/>
                  </a:gs>
                  <a:gs pos="100000">
                    <a:srgbClr val="333333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1623240" y="2708280"/>
                <a:ext cx="517680" cy="10512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edede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14"/>
            <p:cNvGrpSpPr/>
            <p:nvPr/>
          </p:nvGrpSpPr>
          <p:grpSpPr>
            <a:xfrm>
              <a:off x="3032640" y="2708280"/>
              <a:ext cx="517680" cy="2231640"/>
              <a:chOff x="3032640" y="2708280"/>
              <a:chExt cx="517680" cy="2231640"/>
            </a:xfrm>
          </p:grpSpPr>
          <p:sp>
            <p:nvSpPr>
              <p:cNvPr id="380" name="AutoShape 15"/>
              <p:cNvSpPr/>
              <p:nvPr/>
            </p:nvSpPr>
            <p:spPr>
              <a:xfrm rot="5400000">
                <a:off x="2246760" y="3821040"/>
                <a:ext cx="2126520" cy="110880"/>
              </a:xfrm>
              <a:custGeom>
                <a:avLst/>
                <a:gdLst>
                  <a:gd name="textAreaLeft" fmla="*/ 0 w 2126520"/>
                  <a:gd name="textAreaRight" fmla="*/ 2126520 w 21265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ededed"/>
                  </a:gs>
                  <a:gs pos="100000">
                    <a:srgbClr val="333333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3032640" y="2708280"/>
                <a:ext cx="517680" cy="10512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edede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Rectangle 17"/>
            <p:cNvSpPr/>
            <p:nvPr/>
          </p:nvSpPr>
          <p:spPr>
            <a:xfrm>
              <a:off x="1476360" y="3716280"/>
              <a:ext cx="2445840" cy="215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8"/>
          <p:cNvGrpSpPr/>
          <p:nvPr/>
        </p:nvGrpSpPr>
        <p:grpSpPr>
          <a:xfrm>
            <a:off x="5435640" y="2134080"/>
            <a:ext cx="2374920" cy="2231640"/>
            <a:chOff x="5435640" y="2134080"/>
            <a:chExt cx="2374920" cy="2231640"/>
          </a:xfrm>
        </p:grpSpPr>
        <p:sp>
          <p:nvSpPr>
            <p:cNvPr id="384" name="Rectangle 19"/>
            <p:cNvSpPr/>
            <p:nvPr/>
          </p:nvSpPr>
          <p:spPr>
            <a:xfrm>
              <a:off x="6300720" y="2565360"/>
              <a:ext cx="504720" cy="649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989898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20"/>
            <p:cNvGrpSpPr/>
            <p:nvPr/>
          </p:nvGrpSpPr>
          <p:grpSpPr>
            <a:xfrm>
              <a:off x="5651280" y="2134080"/>
              <a:ext cx="502920" cy="2231640"/>
              <a:chOff x="5651280" y="2134080"/>
              <a:chExt cx="502920" cy="2231640"/>
            </a:xfrm>
          </p:grpSpPr>
          <p:sp>
            <p:nvSpPr>
              <p:cNvPr id="386" name="AutoShape 21"/>
              <p:cNvSpPr/>
              <p:nvPr/>
            </p:nvSpPr>
            <p:spPr>
              <a:xfrm rot="16200000">
                <a:off x="4821840" y="3143520"/>
                <a:ext cx="2126520" cy="107640"/>
              </a:xfrm>
              <a:custGeom>
                <a:avLst/>
                <a:gdLst>
                  <a:gd name="textAreaLeft" fmla="*/ 0 w 2126520"/>
                  <a:gd name="textAreaRight" fmla="*/ 2126520 w 21265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ededed"/>
                  </a:gs>
                  <a:gs pos="100000">
                    <a:srgbClr val="333333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22"/>
              <p:cNvSpPr/>
              <p:nvPr/>
            </p:nvSpPr>
            <p:spPr>
              <a:xfrm rot="10800000">
                <a:off x="5651280" y="4260600"/>
                <a:ext cx="502920" cy="10512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edede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3"/>
            <p:cNvGrpSpPr/>
            <p:nvPr/>
          </p:nvGrpSpPr>
          <p:grpSpPr>
            <a:xfrm>
              <a:off x="7093080" y="2134080"/>
              <a:ext cx="503280" cy="2231640"/>
              <a:chOff x="7093080" y="2134080"/>
              <a:chExt cx="503280" cy="2231640"/>
            </a:xfrm>
          </p:grpSpPr>
          <p:sp>
            <p:nvSpPr>
              <p:cNvPr id="389" name="AutoShape 24"/>
              <p:cNvSpPr/>
              <p:nvPr/>
            </p:nvSpPr>
            <p:spPr>
              <a:xfrm rot="16200000">
                <a:off x="6262920" y="3143160"/>
                <a:ext cx="2126520" cy="108000"/>
              </a:xfrm>
              <a:custGeom>
                <a:avLst/>
                <a:gdLst>
                  <a:gd name="textAreaLeft" fmla="*/ 0 w 2126520"/>
                  <a:gd name="textAreaRight" fmla="*/ 2126520 w 21265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ededed"/>
                  </a:gs>
                  <a:gs pos="100000">
                    <a:srgbClr val="333333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25"/>
              <p:cNvSpPr/>
              <p:nvPr/>
            </p:nvSpPr>
            <p:spPr>
              <a:xfrm rot="10800000">
                <a:off x="7093080" y="4260600"/>
                <a:ext cx="503280" cy="10512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edede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Rectangle 26"/>
            <p:cNvSpPr/>
            <p:nvPr/>
          </p:nvSpPr>
          <p:spPr>
            <a:xfrm>
              <a:off x="5435640" y="3141720"/>
              <a:ext cx="2374920" cy="216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99"/>
                </a:solidFill>
                <a:latin typeface="Candara"/>
              </a:rPr>
              <a:t>Величина равная отношению силы, действующей перпендикулярно поверхности , к площади этой поверхности, называется</a:t>
            </a: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Candara"/>
              </a:rPr>
              <a:t>давлением</a:t>
            </a: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93" name="Group 3"/>
          <p:cNvGrpSpPr/>
          <p:nvPr/>
        </p:nvGrpSpPr>
        <p:grpSpPr>
          <a:xfrm>
            <a:off x="233280" y="2997360"/>
            <a:ext cx="8675640" cy="3471480"/>
            <a:chOff x="233280" y="2997360"/>
            <a:chExt cx="8675640" cy="3471480"/>
          </a:xfrm>
        </p:grpSpPr>
        <p:sp>
          <p:nvSpPr>
            <p:cNvPr id="394" name="Rectangle 4"/>
            <p:cNvSpPr/>
            <p:nvPr/>
          </p:nvSpPr>
          <p:spPr>
            <a:xfrm>
              <a:off x="233280" y="4653000"/>
              <a:ext cx="8424720" cy="576360"/>
            </a:xfrm>
            <a:prstGeom prst="rect">
              <a:avLst/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5"/>
            <p:cNvSpPr/>
            <p:nvPr/>
          </p:nvSpPr>
          <p:spPr>
            <a:xfrm>
              <a:off x="1384200" y="2997360"/>
              <a:ext cx="792000" cy="1655640"/>
            </a:xfrm>
            <a:prstGeom prst="rect">
              <a:avLst/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6"/>
            <p:cNvSpPr/>
            <p:nvPr/>
          </p:nvSpPr>
          <p:spPr>
            <a:xfrm rot="5400000">
              <a:off x="6497640" y="3429000"/>
              <a:ext cx="792000" cy="1656000"/>
            </a:xfrm>
            <a:prstGeom prst="rect">
              <a:avLst/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7"/>
            <p:cNvSpPr/>
            <p:nvPr/>
          </p:nvSpPr>
          <p:spPr>
            <a:xfrm>
              <a:off x="1672920" y="4653000"/>
              <a:ext cx="287640" cy="1728720"/>
            </a:xfrm>
            <a:prstGeom prst="downArrow">
              <a:avLst>
                <a:gd name="adj1" fmla="val 50000"/>
                <a:gd name="adj2" fmla="val 15025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8"/>
            <p:cNvSpPr/>
            <p:nvPr/>
          </p:nvSpPr>
          <p:spPr>
            <a:xfrm>
              <a:off x="6784920" y="4653000"/>
              <a:ext cx="287280" cy="1728720"/>
            </a:xfrm>
            <a:prstGeom prst="downArrow">
              <a:avLst>
                <a:gd name="adj1" fmla="val 50000"/>
                <a:gd name="adj2" fmla="val 15043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9"/>
            <p:cNvSpPr/>
            <p:nvPr/>
          </p:nvSpPr>
          <p:spPr>
            <a:xfrm>
              <a:off x="1384200" y="4653000"/>
              <a:ext cx="792000" cy="0"/>
            </a:xfrm>
            <a:prstGeom prst="line">
              <a:avLst/>
            </a:prstGeom>
            <a:ln w="7632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0"/>
            <p:cNvSpPr/>
            <p:nvPr/>
          </p:nvSpPr>
          <p:spPr>
            <a:xfrm>
              <a:off x="6065640" y="4653000"/>
              <a:ext cx="1656000" cy="0"/>
            </a:xfrm>
            <a:prstGeom prst="line">
              <a:avLst/>
            </a:prstGeom>
            <a:ln w="7632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1"/>
            <p:cNvSpPr/>
            <p:nvPr/>
          </p:nvSpPr>
          <p:spPr>
            <a:xfrm flipH="1">
              <a:off x="7289640" y="3645000"/>
              <a:ext cx="100800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2"/>
            <p:cNvSpPr/>
            <p:nvPr/>
          </p:nvSpPr>
          <p:spPr>
            <a:xfrm flipH="1">
              <a:off x="1960560" y="3645000"/>
              <a:ext cx="100800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3"/>
            <p:cNvSpPr/>
            <p:nvPr/>
          </p:nvSpPr>
          <p:spPr>
            <a:xfrm>
              <a:off x="2968560" y="3357720"/>
              <a:ext cx="576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4"/>
            <p:cNvSpPr/>
            <p:nvPr/>
          </p:nvSpPr>
          <p:spPr>
            <a:xfrm>
              <a:off x="8332560" y="3357720"/>
              <a:ext cx="576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5"/>
            <p:cNvSpPr/>
            <p:nvPr/>
          </p:nvSpPr>
          <p:spPr>
            <a:xfrm>
              <a:off x="2249280" y="59482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6"/>
            <p:cNvSpPr/>
            <p:nvPr/>
          </p:nvSpPr>
          <p:spPr>
            <a:xfrm>
              <a:off x="7289640" y="587700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7"/>
            <p:cNvSpPr/>
            <p:nvPr/>
          </p:nvSpPr>
          <p:spPr>
            <a:xfrm>
              <a:off x="2320920" y="594828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8"/>
            <p:cNvSpPr/>
            <p:nvPr/>
          </p:nvSpPr>
          <p:spPr>
            <a:xfrm>
              <a:off x="7361280" y="587700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2"/>
          <p:cNvGrpSpPr/>
          <p:nvPr/>
        </p:nvGrpSpPr>
        <p:grpSpPr>
          <a:xfrm>
            <a:off x="1908000" y="404640"/>
            <a:ext cx="5327280" cy="1025280"/>
            <a:chOff x="1908000" y="404640"/>
            <a:chExt cx="5327280" cy="1025280"/>
          </a:xfrm>
        </p:grpSpPr>
        <p:sp>
          <p:nvSpPr>
            <p:cNvPr id="410" name="Line 3"/>
            <p:cNvSpPr/>
            <p:nvPr/>
          </p:nvSpPr>
          <p:spPr>
            <a:xfrm>
              <a:off x="5199840" y="907920"/>
              <a:ext cx="199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4"/>
            <p:cNvGrpSpPr/>
            <p:nvPr/>
          </p:nvGrpSpPr>
          <p:grpSpPr>
            <a:xfrm>
              <a:off x="1908000" y="404640"/>
              <a:ext cx="5327280" cy="1025280"/>
              <a:chOff x="1908000" y="404640"/>
              <a:chExt cx="5327280" cy="1025280"/>
            </a:xfrm>
          </p:grpSpPr>
          <p:sp>
            <p:nvSpPr>
              <p:cNvPr id="412" name="Text Box 5"/>
              <p:cNvSpPr/>
              <p:nvPr/>
            </p:nvSpPr>
            <p:spPr>
              <a:xfrm>
                <a:off x="1908000" y="620640"/>
                <a:ext cx="23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давлени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"/>
              <p:cNvSpPr/>
              <p:nvPr/>
            </p:nvSpPr>
            <p:spPr>
              <a:xfrm>
                <a:off x="5545800" y="404640"/>
                <a:ext cx="130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сил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7"/>
              <p:cNvSpPr/>
              <p:nvPr/>
            </p:nvSpPr>
            <p:spPr>
              <a:xfrm>
                <a:off x="4420800" y="836280"/>
                <a:ext cx="345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8"/>
              <p:cNvSpPr/>
              <p:nvPr/>
            </p:nvSpPr>
            <p:spPr>
              <a:xfrm>
                <a:off x="4420800" y="981000"/>
                <a:ext cx="345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9"/>
              <p:cNvSpPr/>
              <p:nvPr/>
            </p:nvSpPr>
            <p:spPr>
              <a:xfrm>
                <a:off x="5070240" y="909360"/>
                <a:ext cx="21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площад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Text Box 10"/>
          <p:cNvSpPr/>
          <p:nvPr/>
        </p:nvSpPr>
        <p:spPr>
          <a:xfrm>
            <a:off x="3616200" y="1628640"/>
            <a:ext cx="19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=F/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647640" y="23493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а единицу давления принимается такое давление, которое производит сила в 1 Н, действующая на поверхность площадью 1м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2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перпендикулярно эт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574560" y="4221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ица давления – ньютон на квадратный метр,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аска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3"/>
          <p:cNvGrpSpPr/>
          <p:nvPr/>
        </p:nvGrpSpPr>
        <p:grpSpPr>
          <a:xfrm>
            <a:off x="2987640" y="4724280"/>
            <a:ext cx="3168360" cy="964800"/>
            <a:chOff x="2987640" y="4724280"/>
            <a:chExt cx="3168360" cy="964800"/>
          </a:xfrm>
        </p:grpSpPr>
        <p:sp>
          <p:nvSpPr>
            <p:cNvPr id="421" name="Line 14"/>
            <p:cNvSpPr/>
            <p:nvPr/>
          </p:nvSpPr>
          <p:spPr>
            <a:xfrm>
              <a:off x="4429080" y="5084640"/>
              <a:ext cx="287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15"/>
            <p:cNvGrpSpPr/>
            <p:nvPr/>
          </p:nvGrpSpPr>
          <p:grpSpPr>
            <a:xfrm>
              <a:off x="2987640" y="4724280"/>
              <a:ext cx="3168360" cy="964800"/>
              <a:chOff x="2987640" y="4724280"/>
              <a:chExt cx="3168360" cy="964800"/>
            </a:xfrm>
          </p:grpSpPr>
          <p:grpSp>
            <p:nvGrpSpPr>
              <p:cNvPr id="423" name="Group 16"/>
              <p:cNvGrpSpPr/>
              <p:nvPr/>
            </p:nvGrpSpPr>
            <p:grpSpPr>
              <a:xfrm>
                <a:off x="2987640" y="4724280"/>
                <a:ext cx="2812680" cy="797040"/>
                <a:chOff x="2987640" y="4724280"/>
                <a:chExt cx="2812680" cy="797040"/>
              </a:xfrm>
            </p:grpSpPr>
            <p:grpSp>
              <p:nvGrpSpPr>
                <p:cNvPr id="424" name="Group 17"/>
                <p:cNvGrpSpPr/>
                <p:nvPr/>
              </p:nvGrpSpPr>
              <p:grpSpPr>
                <a:xfrm>
                  <a:off x="2987640" y="4724280"/>
                  <a:ext cx="2812680" cy="797040"/>
                  <a:chOff x="2987640" y="4724280"/>
                  <a:chExt cx="2812680" cy="797040"/>
                </a:xfrm>
              </p:grpSpPr>
              <p:sp>
                <p:nvSpPr>
                  <p:cNvPr id="425" name="Text Box 18"/>
                  <p:cNvSpPr/>
                  <p:nvPr/>
                </p:nvSpPr>
                <p:spPr>
                  <a:xfrm>
                    <a:off x="2987640" y="4939920"/>
                    <a:ext cx="14072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3200" spc="-1" strike="noStrike">
                        <a:solidFill>
                          <a:srgbClr val="ff0000"/>
                        </a:solidFill>
                        <a:latin typeface="Arial"/>
                      </a:rPr>
                      <a:t>1 Па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Line 19"/>
                  <p:cNvSpPr/>
                  <p:nvPr/>
                </p:nvSpPr>
                <p:spPr>
                  <a:xfrm>
                    <a:off x="4394880" y="5229000"/>
                    <a:ext cx="3506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Text Box 20"/>
                  <p:cNvSpPr/>
                  <p:nvPr/>
                </p:nvSpPr>
                <p:spPr>
                  <a:xfrm>
                    <a:off x="4745880" y="4939920"/>
                    <a:ext cx="4399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3200" spc="-1" strike="noStrike">
                        <a:solidFill>
                          <a:srgbClr val="ff0000"/>
                        </a:solidFill>
                        <a:latin typeface="Arial"/>
                      </a:rPr>
                      <a:t>1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Text Box 21"/>
                  <p:cNvSpPr/>
                  <p:nvPr/>
                </p:nvSpPr>
                <p:spPr>
                  <a:xfrm>
                    <a:off x="5273280" y="4724280"/>
                    <a:ext cx="5270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3200" spc="-1" strike="noStrike">
                        <a:solidFill>
                          <a:srgbClr val="ff0000"/>
                        </a:solidFill>
                        <a:latin typeface="Arial"/>
                      </a:rPr>
                      <a:t>Н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9" name="Line 22"/>
                <p:cNvSpPr/>
                <p:nvPr/>
              </p:nvSpPr>
              <p:spPr>
                <a:xfrm>
                  <a:off x="5186160" y="5229360"/>
                  <a:ext cx="527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Text Box 23"/>
              <p:cNvSpPr/>
              <p:nvPr/>
            </p:nvSpPr>
            <p:spPr>
              <a:xfrm>
                <a:off x="5275800" y="5229360"/>
                <a:ext cx="88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М</a:t>
                </a:r>
                <a:r>
                  <a:rPr b="1" lang="ru-RU" sz="2400" spc="-1" strike="noStrike" baseline="30000">
                    <a:solidFill>
                      <a:srgbClr val="ff0000"/>
                    </a:solidFill>
                    <a:latin typeface="Arial"/>
                  </a:rPr>
                  <a:t>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00"/>
                </a:solidFill>
                <a:latin typeface="Candara"/>
              </a:rPr>
              <a:t>Давление</a:t>
            </a:r>
            <a:r>
              <a:rPr b="0" lang="ru-RU" sz="66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1"/>
          <a:srcRect l="12512" t="19931" r="12992" b="15896"/>
          <a:stretch/>
        </p:blipFill>
        <p:spPr>
          <a:xfrm>
            <a:off x="755640" y="1628640"/>
            <a:ext cx="7632720" cy="4859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J0336914"/>
          <p:cNvPicPr/>
          <p:nvPr/>
        </p:nvPicPr>
        <p:blipFill>
          <a:blip r:embed="rId2"/>
          <a:stretch/>
        </p:blipFill>
        <p:spPr>
          <a:xfrm>
            <a:off x="179280" y="5445000"/>
            <a:ext cx="11001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2:28:38Z</dcterms:created>
  <dc:creator>Customer</dc:creator>
  <dc:description/>
  <dc:language>en-US</dc:language>
  <cp:lastModifiedBy>Администратор</cp:lastModifiedBy>
  <dcterms:modified xsi:type="dcterms:W3CDTF">2015-03-31T12:07:22Z</dcterms:modified>
  <cp:revision>64</cp:revision>
  <dc:subject/>
  <dc:title>Слайд 1</dc:title>
</cp:coreProperties>
</file>